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8C8B3F-1336-44AB-94D7-299E585B7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ro: who am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im to introduce you to eLib, with colleagues who I will introduce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 program, only a flavour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y job to introduce general picture, background and to make some comparisons with the the DLi, which you are more familiar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so mention some related activities, and contact points for further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remely influential report (on web at UKOLN, see l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me other activities, only indication of budge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p-sliced”: re-directed university money, not new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3880"/>
            <a:ext cx="9810720" cy="133560"/>
            <a:chOff x="0" y="1523880"/>
            <a:chExt cx="9810720" cy="1335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810720" cy="6516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c0c0"/>
                </a:gs>
                <a:gs pos="100000">
                  <a:srgbClr val="006060"/>
                </a:gs>
              </a:gsLst>
              <a:lin ang="0"/>
            </a:gra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623960"/>
              <a:ext cx="9810720" cy="3348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182520" y="6332400"/>
            <a:ext cx="4878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ris Rusbridge: JISC Committee for Electronic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183360" y="63324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3E728ACF-6C19-48DE-9A5C-02B4704AEC82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941688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94E27953-4A16-443C-9F68-6C15A1649D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52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907400" y="6224760"/>
            <a:ext cx="1181160" cy="495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666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JISC Digital Library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41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CDL, Paris September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62120" y="53352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Human &amp; other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85720" y="17524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Human and organisational Issues associated with network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&amp;IT skills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mon interfac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lso have programme on inform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62120" y="4572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terna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85720" y="17524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JISC/NSF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art of NSF International Digital Libraries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6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£500,000 per year for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pportunisti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High profile, popular with the payma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jor benefits in improving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4572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Future internation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85720" y="17524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No specific budget, although seeking a small general intern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pecific ideas would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utral stance: needs to benefit JISC, to justify cost (including establish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arliest spend would b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re likely 2001/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762120" y="457200"/>
            <a:ext cx="838188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Conditions for inter-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programme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85720" y="1752480"/>
            <a:ext cx="84819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Mutual advantage and willingness to share the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olitics and timing: con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sources: significantly greater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Flexibility: need to adapt hallowed practice to accommo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6212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ugges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85720" y="17524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dd to new circu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posers are invited to suggest optional additional modules to their proposal, to be performed by international partners,and funded by non-[local] funding sources. Viable proposals of this type will be viewed favourabl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llows separability of funding decisions but puts the onus on the project’s international partners to organ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24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JISC: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85720" y="17524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e JISC web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www.jisc.ac.u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Lib web pages maintained by UKO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www.ukoln.ac.uk/elib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ilbase lists incl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jisc-announce@mailbase.ac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is-elib@mailbase.ac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24000" y="228600"/>
            <a:ext cx="777240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JISC digital library initiatives: </a:t>
            </a:r>
            <a:r>
              <a:rPr b="0" lang="en-US" sz="3200" spc="-1" strike="noStrike">
                <a:solidFill>
                  <a:srgbClr val="006b61"/>
                </a:solidFill>
                <a:latin typeface="Book Antiqua"/>
                <a:ea typeface="Book Antiqua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85720" y="17524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JISC programme out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D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rnational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24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JISC: backgro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85720" y="17524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Joint Information Systems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b-committee of funding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£35 million per year standard budget (plus ext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unds JANET/SuperJ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unds services (eg BIDS, EDINA, MIMAS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unds R&amp;D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c0128"/>
                </a:solidFill>
                <a:latin typeface="Arial Narrow"/>
                <a:ea typeface="Arial Narrow"/>
              </a:rPr>
              <a:t>Funding is “top-slic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4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JISC: sub-committ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9760" y="198108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JCN: networks (£20 M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JCAS: authentication &amp; security (middleware, £2 M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JCEI: information (digital library, £8 M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JCIEL (?): learning environments (£2 M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JCALT: human &amp; MIS issues (£2 M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6212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5720" y="17524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£40 million extra for SuperJANE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jor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volvement in Internet 2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rket testing (eg Mailb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No major R&amp;D 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85720" y="17524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w committee: work areas rou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entication and author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curity and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-comme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mote DB access and meta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ice based on 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Link to Interne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Not sure how committee will pro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85720" y="1752480"/>
            <a:ext cx="87105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Distributed National Electronic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... to make sense of burgeoning heterogeneous informatio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... a </a:t>
            </a:r>
            <a:r>
              <a:rPr b="0" lang="en-US" sz="3200" spc="-1" strike="noStrike">
                <a:solidFill>
                  <a:srgbClr val="00c000"/>
                </a:solidFill>
                <a:latin typeface="Arial Narrow"/>
                <a:ea typeface="Arial Narrow"/>
              </a:rPr>
              <a:t>national scal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digital librar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... emphasising </a:t>
            </a:r>
            <a:r>
              <a:rPr b="0" i="1" lang="en-US" sz="3200" spc="-1" strike="noStrike">
                <a:solidFill>
                  <a:srgbClr val="ff00ff"/>
                </a:solidFill>
                <a:latin typeface="Arial Narrow"/>
                <a:ea typeface="Arial Narrow"/>
              </a:rPr>
              <a:t>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... needing </a:t>
            </a:r>
            <a:r>
              <a:rPr b="0" lang="en-US" sz="3200" spc="-1" strike="noStrike">
                <a:solidFill>
                  <a:srgbClr val="00c000"/>
                </a:solidFill>
                <a:latin typeface="Arial Narrow"/>
                <a:ea typeface="Arial Narrow"/>
              </a:rPr>
              <a:t>design, infrastructure, development, research,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nd</a:t>
            </a:r>
            <a:r>
              <a:rPr b="0" lang="en-US" sz="3200" spc="-1" strike="noStrike">
                <a:solidFill>
                  <a:srgbClr val="00c000"/>
                </a:solidFill>
                <a:latin typeface="Arial Narrow"/>
                <a:ea typeface="Arial Narrow"/>
              </a:rPr>
              <a:t> conten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del based on </a:t>
            </a:r>
            <a:r>
              <a:rPr b="0" lang="en-US" sz="3200" spc="-1" strike="noStrike">
                <a:solidFill>
                  <a:srgbClr val="00c000"/>
                </a:solidFill>
                <a:latin typeface="Arial Narrow"/>
                <a:ea typeface="Arial Narrow"/>
              </a:rPr>
              <a:t>portals, services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nd</a:t>
            </a:r>
            <a:r>
              <a:rPr b="0" lang="en-US" sz="3200" spc="-1" strike="noStrike">
                <a:solidFill>
                  <a:srgbClr val="00c000"/>
                </a:solidFill>
                <a:latin typeface="Arial Narrow"/>
                <a:ea typeface="Arial Narrow"/>
              </a:rPr>
              <a:t> data provider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4572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N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85720" y="1752480"/>
            <a:ext cx="84819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jor Circular November 99, to close January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jects to develop the D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uild and connect the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xperiment with different types of por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xperiment with differe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corporate more types of con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valuation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3808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Learning &amp; te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85720" y="17524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jor funding injection (£10 million new money over 3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art of DNER cir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nhancing JISC services for learning &amp;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developing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digital libraries and learning/teaching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...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 Rusbridge</dc:creator>
  <dc:description/>
  <dc:language>en-US</dc:language>
  <cp:lastModifiedBy>Chris Rusbridge</cp:lastModifiedBy>
  <cp:revision>0</cp:revision>
  <dc:subject/>
  <dc:title>UK Electronic Libraries Program (eLib)</dc:title>
</cp:coreProperties>
</file>