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30.wmf" ContentType="image/x-wmf"/>
  <Override PartName="/ppt/media/image45.png" ContentType="image/png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6.png" ContentType="image/png"/>
  <Override PartName="/ppt/media/image6.wmf" ContentType="image/x-wmf"/>
  <Override PartName="/ppt/media/image29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BA7-95F6-4963-8593-8892CE63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1EA-1193-405B-A7AE-90358809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204-8E86-4127-8409-5D3DAF4E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318-AA8E-4A28-A0B4-94E80E3E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0A7-8F84-4DFC-B169-5C5287EE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427-912F-4D16-B0D4-4F9E5DDA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C77-AAD6-4BFF-A3A5-D83A0CCB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29B-FF36-4909-9FE7-AFC4CC29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A19-72BE-410D-8B58-E06F8926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276-F1A8-443E-81EC-651509C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B13-D0C7-4A79-AD2D-4B4A6A34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ECD-705E-424C-973C-23B4E0B7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D282-A021-482F-A133-C5C77412E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Pürimidiinide reaktsioon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6600" y="1967040"/>
            <a:ext cx="7954560" cy="45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Erinevused – tümiinil on positsioon 5 okupeeritud metüülrühmaga, tsütosiinil heterotsükli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rotoneeru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alogeeni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üdroksümetüülimine ja aminometüüli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N-oksiidi moodustu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Alküülimine (diasometaan ja dimetüülsulfaa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eaktsioon karbodiimiididega ja akrüülonitriil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Merkureeri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Deamineeri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Eteenoderivaatide moodustu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Tsütosiini ümberamineeri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eaktsioon hüdroksüülamiin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eaktsioon hüdrasiin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eaktsioonid bisulfit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Liitumisreaktsioonid OsO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ja KMnO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Fotoreaktsioon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8. Eteenoderivaatide moodustu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8600" y="1371600"/>
          <a:ext cx="16732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1673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276720" y="990720"/>
          <a:ext cx="1936800" cy="18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990720"/>
                    <a:ext cx="193680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123280" y="1967040"/>
            <a:ext cx="1142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ClCH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400800" y="1371600"/>
          <a:ext cx="1784520" cy="158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1371600"/>
                    <a:ext cx="17845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257800" y="2286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9. Tsütosiini ümberamineeri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" y="1371600"/>
          <a:ext cx="16732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1673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2096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038480" y="1447920"/>
          <a:ext cx="1673280" cy="16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447920"/>
                    <a:ext cx="167328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218320" y="175248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-N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599120" y="1141920"/>
            <a:ext cx="2140560" cy="102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98" y="2328"/>
                </a:moveTo>
                <a:arcTo wR="10800" hR="10800" stAng="-3100278" swAng="13729840"/>
                <a:lnTo>
                  <a:pt x="10800" y="10800"/>
                </a:lnTo>
                <a:close/>
              </a:path>
              <a:path fill="none" w="21600" h="21600">
                <a:moveTo>
                  <a:pt x="17498" y="2328"/>
                </a:moveTo>
                <a:arcTo wR="10800" hR="10800" stAng="-3100278" swAng="1372984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10a. Reaktsioon hüdroksüülamiin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1371600"/>
          <a:ext cx="16732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1673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362320" y="2057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48280" y="148896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20480" y="2133720"/>
            <a:ext cx="164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M N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1371600"/>
          <a:ext cx="167652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71600"/>
                    <a:ext cx="167652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2193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240" y="2784600"/>
            <a:ext cx="16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=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7M N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80880" y="4191120"/>
          <a:ext cx="2070360" cy="14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191120"/>
                    <a:ext cx="207036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408000" y="167652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ümberamineeri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81280" y="4464000"/>
            <a:ext cx="516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Ümberamineerimine + liitumisreaktsioon 5,6-kaksiksidem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83360" y="5243400"/>
            <a:ext cx="40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H edasisel tõstmisel reaktsioonikiirus vähen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10b. Reaktsioon hüdroksüülamiin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09480" y="1219320"/>
          <a:ext cx="167652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7652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278240" y="1295280"/>
          <a:ext cx="181764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8240" y="1295280"/>
                    <a:ext cx="181764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516400" y="14479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20480" y="2133720"/>
            <a:ext cx="187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0 M N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43000" y="3429000"/>
          <a:ext cx="1795320" cy="15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429000"/>
                    <a:ext cx="17953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058840" y="37940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6040" y="3505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7440" y="3733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6040" y="41148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5160" y="40226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638680" y="1523880"/>
            <a:ext cx="152640" cy="763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021200" y="3657600"/>
          <a:ext cx="1388880" cy="116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21200" y="3657600"/>
                    <a:ext cx="13888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32004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24280" y="3927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172200" y="3929040"/>
          <a:ext cx="838080" cy="4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3929040"/>
                    <a:ext cx="8380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6383160" y="3657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0360" y="3657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0684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038120" y="47242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73560" y="4973760"/>
            <a:ext cx="82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676520" y="5638680"/>
          <a:ext cx="1647720" cy="96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5638680"/>
                    <a:ext cx="16477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373392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657240" y="617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724280" y="5587920"/>
          <a:ext cx="1648080" cy="96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5587920"/>
                    <a:ext cx="16480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eaktsioon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üdrasiin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04920" y="914400"/>
          <a:ext cx="16732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1673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225520" y="194004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1480" y="13716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118040" y="914400"/>
          <a:ext cx="1673280" cy="14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8040" y="914400"/>
                    <a:ext cx="16732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858000" y="1295280"/>
          <a:ext cx="133524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1295280"/>
                    <a:ext cx="133524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6122880" y="1523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380880" y="2666880"/>
            <a:ext cx="8150400" cy="211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805480" y="3490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1676520" y="4648320"/>
            <a:ext cx="359064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2. Reaktsioonid bisulfi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33520" y="762120"/>
          <a:ext cx="1496880" cy="14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149688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276720" y="838080"/>
          <a:ext cx="20588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838080"/>
                    <a:ext cx="20588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2209680" y="1676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16520" y="1219320"/>
            <a:ext cx="88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NaHSO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057400" y="22096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236232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81800" y="1187280"/>
            <a:ext cx="54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676520"/>
            <a:ext cx="100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H&gt;8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08680" y="914400"/>
          <a:ext cx="1497240" cy="14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8680" y="914400"/>
                    <a:ext cx="149724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2286000" y="1676520"/>
            <a:ext cx="77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H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24382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-NH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274320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H~pK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284800" y="3514680"/>
          <a:ext cx="1496880" cy="15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4800" y="3514680"/>
                    <a:ext cx="14968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09480" y="5522760"/>
            <a:ext cx="8255160" cy="14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Bisulfiti adukti moodustumine on pH-st sõltuv pöörduv reaktsioon: 1 M NaHSO</a:t>
            </a:r>
            <a:r>
              <a:rPr b="0" lang="et-EE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 pH5 20</a:t>
            </a:r>
            <a:r>
              <a:rPr b="0" lang="et-EE" sz="1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C &gt;70% adukti, bisulfiti liia eemaldamisel</a:t>
            </a:r>
            <a:br>
              <a:rPr sz="1200"/>
            </a:b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adukt laguneb.Reaktsioon on täielikult pöörduv kuni pH7. Leeliselisemas keskkonnas toimub adukti deamineerumine ning uridiini</a:t>
            </a:r>
            <a:br>
              <a:rPr sz="1200"/>
            </a:b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bisulfit adukti elimineerimisreaktsioon (uridiini bisulfitreaktsiooni pöördreaktsioon). Seda reaktsiooni kasutatakse genoomse DNA</a:t>
            </a:r>
            <a:br>
              <a:rPr sz="1200"/>
            </a:b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C-metüleerimise analüüsil. Deamineerumisprotsess on suhteliselt aeglane pH8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ning kui reaktsioonikeskkonnas on tugev nukleofiil (s.t. R-NH</a:t>
            </a:r>
            <a:r>
              <a:rPr b="0" lang="et-EE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), siis toimub kiirem ümberamineerimisreaktsioon, bisulfitiooni </a:t>
            </a:r>
            <a:br>
              <a:rPr sz="1200"/>
            </a:b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eemaldamine (või ka kontsentratsiooni alandamine) taastab heterotsükli aromaatsuse ning fikseerib ümberamineerimisreaktsiooni </a:t>
            </a:r>
            <a:br>
              <a:rPr sz="1200"/>
            </a:b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tulemu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3623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2743200"/>
            <a:ext cx="77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H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825480" y="3581280"/>
          <a:ext cx="1674720" cy="144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5480" y="3581280"/>
                    <a:ext cx="167472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3. Liitumisreaktsioonid Os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ja KMn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14440" y="700200"/>
          <a:ext cx="5319720" cy="43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700200"/>
                    <a:ext cx="531972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213372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79520" y="11080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Os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2362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251080"/>
            <a:ext cx="113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Mn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038480" y="251460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89200" y="2631960"/>
            <a:ext cx="70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11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019920" y="3429000"/>
          <a:ext cx="1582560" cy="16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158256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14a. Fotoreaktsioon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533680" y="1023840"/>
            <a:ext cx="4076640" cy="4810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09040" y="57456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ümidiini dimeeri moodustumine UV-toi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4000" y="1346040"/>
            <a:ext cx="859140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. Uratsüüli ja tsütosiini puhul reageerib ergastatud heterotsükkel veega, mille tulemusel topeltside C5-C6 katkeb, positsiooni C6 lisandub OH-rühm. Uratsüüli puhul moodustub 6-oksü-5,6-dihüdrouratsüül, tsütosiiini puhul analoogne 6-oksü-5,6-dihüdrotsütosiin. Uratsüüli fotohüdraat on stabiilsem kui tsütosiini fotohüdraat. Fotohüdraadi moodustumise kiirus tsütidiini puhul on pH sõltuv - protoneeritud vorm reageerib märksa aeglasemalt, uridiini puhul muutub kiirus pH-st vähe. Samuti võib ergastatud uratsüül reageerida piirituste ja tsüaniidiga (reaktsioon analoogne veeg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. Uridiini ja tsütidiini fotohüdraadid lagunevad algseteks nukleosiidideks tagasi. Uridiini puhul soodustab pöördreaktsiooni happeline keskkond ja kõrge temperatuur (90 kraadi), tsütidiini puhul toimub pöördreaktsioon maksimaalkiirusega pH ~5 juures ja kaasneb vähemal määral deamineerumise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366920" y="4983120"/>
            <a:ext cx="6095880" cy="15908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934320" y="6164280"/>
            <a:ext cx="75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6316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65480" y="6461280"/>
            <a:ext cx="268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1. Halogeeni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1219320"/>
          <a:ext cx="167652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167652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7432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37800" y="17146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Hal</a:t>
            </a:r>
            <a:r>
              <a:rPr b="0" lang="et-EE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t-EE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114800" y="1295280"/>
          <a:ext cx="1676520" cy="148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295280"/>
                    <a:ext cx="167652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04920" y="3124080"/>
          <a:ext cx="1676160" cy="148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124080"/>
                    <a:ext cx="167616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477120" y="3276720"/>
          <a:ext cx="1730160" cy="148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276720"/>
                    <a:ext cx="173016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295280" y="5105520"/>
          <a:ext cx="1698840" cy="148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105520"/>
                    <a:ext cx="1698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28600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352680" y="3276720"/>
          <a:ext cx="1712880" cy="1488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3276720"/>
                    <a:ext cx="171288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42900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105520" y="5105520"/>
          <a:ext cx="1809720" cy="14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05520" y="5105520"/>
                    <a:ext cx="180972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348000" y="552456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;H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5800" y="5943600"/>
            <a:ext cx="599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90720" y="419112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t-EE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2240" y="3701880"/>
            <a:ext cx="646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6440" y="3619440"/>
            <a:ext cx="87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BrO</a:t>
            </a:r>
            <a:r>
              <a:rPr b="0" lang="et-EE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2. Hüdroksü- ja aminometüüli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8080" y="1295280"/>
          <a:ext cx="1494000" cy="14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14940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590920" y="2133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5680" y="167652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CHO;H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038480" y="1371600"/>
          <a:ext cx="2025720" cy="14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371600"/>
                    <a:ext cx="202572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120" y="3768840"/>
          <a:ext cx="1493640" cy="148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68840"/>
                    <a:ext cx="149364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743200" y="4876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4387680"/>
            <a:ext cx="149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CHO;NH(Et)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419720" y="3809880"/>
          <a:ext cx="2130480" cy="149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809880"/>
                    <a:ext cx="21304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365920" y="233208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, 0.5M H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8480" y="1332000"/>
            <a:ext cx="255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ütidiin happelises keskkonnas ei</a:t>
            </a:r>
            <a:br>
              <a:rPr sz="1200"/>
            </a:b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reageeri (heterotsükkel protoneeritud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Leeliselises keskkonnas annab madala </a:t>
            </a:r>
            <a:br>
              <a:rPr sz="1200"/>
            </a:b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saagisega 5-hüdroksümetüültsütidii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560" y="563868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Saagis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3. N-oksiidi moodustu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43000" y="1523880"/>
          <a:ext cx="16732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1673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3048120" y="2438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905120"/>
            <a:ext cx="14479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RCO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50000" y="1676520"/>
          <a:ext cx="175572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1676520"/>
                    <a:ext cx="17557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4a.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lküüli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1920" y="571680"/>
            <a:ext cx="51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Agendid: diasometaan, alküülhaliidid, alküülsulfaad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3483000"/>
          <a:ext cx="16732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83000"/>
                    <a:ext cx="1673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819520" y="424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19520" y="3711600"/>
          <a:ext cx="1249200" cy="3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11600"/>
                    <a:ext cx="12492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19720" y="3559320"/>
          <a:ext cx="1990440" cy="14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559320"/>
                    <a:ext cx="199044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62120" y="1219320"/>
          <a:ext cx="1493640" cy="14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1219320"/>
                    <a:ext cx="149364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59092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90920" y="1676520"/>
          <a:ext cx="124920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1676520"/>
                    <a:ext cx="12492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419720" y="1523880"/>
          <a:ext cx="1990440" cy="147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1523880"/>
                    <a:ext cx="199044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55880" y="563868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U&gt;PO4&gt;C~2’-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4b. Alküüli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371600"/>
          <a:ext cx="16732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1673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38080" y="3200400"/>
          <a:ext cx="1494000" cy="14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200400"/>
                    <a:ext cx="149400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81952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191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51040" y="1447920"/>
            <a:ext cx="2371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-SO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-OCH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0" y="1447920"/>
          <a:ext cx="1828800" cy="14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447920"/>
                    <a:ext cx="182880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805480" y="209880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=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343400" y="3276720"/>
          <a:ext cx="1925640" cy="14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276720"/>
                    <a:ext cx="1925640" cy="14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590920" y="3625920"/>
            <a:ext cx="2371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-SO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-OCH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5. Reaktsioon karbodiimiididega ja akrüülonitriil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1219320"/>
          <a:ext cx="167652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7652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666880" y="21337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52840" y="163836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CH2=CH-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876920" y="1447920"/>
          <a:ext cx="2295360" cy="143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447920"/>
                    <a:ext cx="2295360" cy="14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14300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4648320"/>
          <a:ext cx="1982880" cy="170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648320"/>
                    <a:ext cx="1982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356840" y="323856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R-N=C=N-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(Mg</a:t>
            </a:r>
            <a:r>
              <a:rPr b="0" lang="et-EE" sz="1800" spc="-1" strike="noStrike" baseline="30000">
                <a:solidFill>
                  <a:srgbClr val="000000"/>
                </a:solidFill>
                <a:latin typeface="Times New Roman"/>
              </a:rPr>
              <a:t>2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35812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447920" y="3580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6. Merkureeri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1371600"/>
          <a:ext cx="16732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1673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280" y="3200400"/>
          <a:ext cx="1494000" cy="14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200400"/>
                    <a:ext cx="149400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133720" y="2514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65680" y="1828800"/>
            <a:ext cx="170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COO)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H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733920" y="1523880"/>
          <a:ext cx="2000160" cy="144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1523880"/>
                    <a:ext cx="200016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269080" y="36990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naloogs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514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760" y="19461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553080" y="1676520"/>
          <a:ext cx="2270160" cy="144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676520"/>
                    <a:ext cx="227016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37880" y="5029200"/>
            <a:ext cx="870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-Hg-S side on tugev. Reaktsiooni saab kasutada edukalt ka oligo-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ukleotiidide immobiliseerimiseks (R= tahke kandjaga seotud alküü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97600" y="30132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43920" y="3116160"/>
            <a:ext cx="101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aBT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7. Deamineeri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1371600"/>
          <a:ext cx="16732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1673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096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9160" y="1752480"/>
            <a:ext cx="74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733920" y="1295280"/>
          <a:ext cx="14968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295280"/>
                    <a:ext cx="14968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562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934320" y="1523880"/>
          <a:ext cx="1493640" cy="148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1523880"/>
                    <a:ext cx="149364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5172480" y="135720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t-EE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2403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=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8920" y="3235320"/>
            <a:ext cx="210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3.75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29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5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5.0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8.6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4480" y="4917960"/>
            <a:ext cx="2750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0.57 M NaN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3.7 M atsetaatpuh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37.5 </a:t>
            </a:r>
            <a:r>
              <a:rPr b="0" lang="et-EE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9:35:57Z</dcterms:created>
  <dc:creator>Tõnu Reintamm</dc:creator>
  <dc:description/>
  <dc:language>en-US</dc:language>
  <cp:lastModifiedBy>kasutaja</cp:lastModifiedBy>
  <dcterms:modified xsi:type="dcterms:W3CDTF">2011-09-05T12:54:28Z</dcterms:modified>
  <cp:revision>14</cp:revision>
  <dc:subject/>
  <dc:title>Pürimidiinide reaktsioonid</dc:title>
</cp:coreProperties>
</file>