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6.wmf" ContentType="image/x-wmf"/>
  <Override PartName="/ppt/media/image8.png" ContentType="image/png"/>
  <Override PartName="/ppt/media/image27.png" ContentType="image/png"/>
  <Override PartName="/ppt/media/image12.wmf" ContentType="image/x-wmf"/>
  <Override PartName="/ppt/media/image10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5.png" ContentType="image/png"/>
  <Override PartName="/ppt/media/image13.wmf" ContentType="image/x-wmf"/>
  <Override PartName="/ppt/media/image28.wmf" ContentType="image/x-wmf"/>
  <Override PartName="/ppt/media/image30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0DF-983A-441F-A00C-6CEABD60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BFC-5B0E-4C6B-A6ED-B690D371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C6B-2FB8-41DC-941D-68495480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B68-6FAD-421A-89B9-9ADCE48B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7AC-3599-44A5-A7D4-16763F11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32F-BD72-49F3-B594-D5DADC9E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F1A-8661-471F-9511-A4C5F5E1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AC6-57D2-4E38-AD4A-B0701AE1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6BF-1C50-4C74-B2DB-89C62D8C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085-11D7-498F-9AFD-C3B53172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892-29E6-4C91-9DC2-E535D862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E04-81FE-4755-AAAF-20158472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11C8-1E53-4207-B4D2-742088AD7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lünukleotiidide keemilised omadu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9080" y="800280"/>
            <a:ext cx="835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olünukleotiidide ruumiline struktuur: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1) Stacking interaktsioonid (ühe- ja kaheahelaline nukleiinhape) -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üdrofoobse iseloomuga interaktsioonid paralleelsete heterotsükliliste aluste vahel.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ligonukleotiidid neelavad UV-valgust vähem, kui mononukleotiidid – hüpokroomne efekt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2) Watson-Cricki tüüpi komplementarsed aluspaarid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3) Nukleiinhapete interaktsioonid teiste biopolümeeridega, eeskätt valkudega – enamasti seonduvad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suurde vak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314~2" descr=""/>
          <p:cNvPicPr/>
          <p:nvPr/>
        </p:nvPicPr>
        <p:blipFill>
          <a:blip r:embed="rId1"/>
          <a:stretch/>
        </p:blipFill>
        <p:spPr>
          <a:xfrm>
            <a:off x="1438200" y="3048120"/>
            <a:ext cx="5108760" cy="2206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53680" y="28954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uur va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0400" y="48769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ike va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4520" y="32004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uur va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6800" y="46483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äike va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6440" y="4495680"/>
            <a:ext cx="19807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040" y="2480760"/>
            <a:ext cx="2495160" cy="102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64" y="18410"/>
                </a:moveTo>
                <a:arcTo wR="10800" hR="10800" stAng="2687834" swAng="8761710"/>
                <a:lnTo>
                  <a:pt x="10800" y="10800"/>
                </a:lnTo>
                <a:close/>
              </a:path>
              <a:path fill="none" w="21600" h="21600">
                <a:moveTo>
                  <a:pt x="18464" y="18410"/>
                </a:moveTo>
                <a:arcTo wR="10800" hR="10800" stAng="2687834" swAng="876171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960" y="64008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asmo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14320" y="365040"/>
            <a:ext cx="782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endusreaktsioonid lämmastiku aatomite juures. 9.2.2.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360" y="988920"/>
            <a:ext cx="87469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inevalt heterotsükli süsinikuaatomite juures toimuvatest asendusreaktsioonidest, toimuv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sendusreaktsioonid lämmastikuaatomite juures heterotsükli tasapinnas, aga mitte perpendikulaars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terotsükliga, sest püridiiinilaadse lämmastiku elektronpaar ei osale aromaatse süsteemi moodustami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ktsiooni tulemus sõltub pH-st, ehk heterotsükli protoneeritusest või deprotoneeritus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) pH&lt; 6 alküleerimist ei toi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) pH~7 juba tuttav G N7 &gt; A N1 &gt; C N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) pH&gt;8 guanosiini j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diini heterotsüklid deprotoneeruvad ning asendusreaktsioon toimub N1 juur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84280" y="3065400"/>
            <a:ext cx="6165720" cy="2243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2560" y="5408640"/>
            <a:ext cx="8099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H 7 juures ei sega guanosiinide metüleerimisreaktsiooni see, kas nukleiinhape on kaheahela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õi mitte. Küll aga võib selle järgi kui mõned guanosiinijäägid EI REAGEERI, öelda, et uurit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ukleiinhape interakteerub nt. valguga just nende g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siinijääkide osalu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95520" y="365040"/>
            <a:ext cx="351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-oksiidide moodustu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28600" y="988920"/>
            <a:ext cx="6563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üridiinitüüpi lämmastikele on iseloomulik N-oksiidide moodustam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oksiidide mõjul. Reageerib atomaarne hapnik, millel on kuus elektr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enosiini N1 ja tsütosiini N3-ga, millel on vabad elektronpaar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una need aatomid osalevad Watson-Cricki vesiniksidemete moodustamise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iis reaktsioon ei toimu kaheahelalise nukleiinhappe korr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39800" y="2446200"/>
          <a:ext cx="584532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2446200"/>
                    <a:ext cx="584532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32680" y="289080"/>
            <a:ext cx="4686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ktsioon dietüülpürokarbonaad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3080" y="2475000"/>
          <a:ext cx="3038760" cy="18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2475000"/>
                    <a:ext cx="3038760" cy="18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21280" y="912960"/>
            <a:ext cx="82303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B! See on reaktsioon, mida vaatasime juba sekveneerimise juures. Reaktsioon toimub leeb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ngimustes (neutraalne pH ja toatemperatuur). Reaktsiooni kiiruse määrab ära DEPC mad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hustuvus vees. Selle reaktsiooni eripära metüleerimise ja N-oksiidide moodustumisega võrrel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n see, et ta ei puuduta kaheahelalist nukleiinhapet. Miks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26920" y="3240"/>
            <a:ext cx="453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ktsioon karbodiimiididega (U, G, I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760" y="3362400"/>
            <a:ext cx="80305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aloogselt teiste aktiivset kaksiksidet sisaldavate reagentideg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aktsioon toimub nõrgalt leeliselises keskkonnas (pH 9), kõrgema pH juures vabaneb intakt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eterotsükkel, sest lisanduv radikaalid on leeliselises keskkonnas labiils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aktsiooni optimaalne pH näitab, et uridiin ja guanosiin peavad olema deprotoneeritu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ageeriv pürrooli-tüüpi lämmastikuaatom saab reageerida vaid perpendikulaarselt heterotsükli tasapinnag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eega võiks oodata, et reaktsioon on tugevalt sekundaarstruktuursõltuv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tekteerida saab modifikatsiooni näiteks pankrease RNaasiga ühetähe sekveneeri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Kuna edaspidi vaadeldes terminaalsete fosfaatrühmade keemilisi omadusi, siis on seal mainitu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t karbodiimiid ei modifitseeri heterotsüklilisi alusei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rminaalse fosfaadi modifitseerimisel kasutatakse madalamat pH, mille juures U ja G ega T ei o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aktiliselt ioniseeritud ja seetõttu tõepoolest ei peagi reageerim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iseks DNA puhul saab igaks- juhuks peale kondensatsioonireaktsiooni teha leeliselise töötlus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kus kui modifitseerumine siiski aset leidis, modifikant laguneks. Kolmandaks ei ole enimkasutata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karbodiimiid 1-etüül-N,N,-dimetüülaminopropüülkarbodiimiid veekeskkonnas üldse karbodiimii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id eksisteerib tsükliliste guanidiinitaoliste isomeeridena (kus ei ole kumuleeritud kaksiksidet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llustratsioonil on toodud karbodiimiidi reaktsioon minoorsete nukleotiididega RNA-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33560" y="414360"/>
            <a:ext cx="64576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32200" y="258840"/>
            <a:ext cx="428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ktsioon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,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bikarbonüülühendit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73200" y="890640"/>
            <a:ext cx="4921200" cy="2019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3960" y="3198960"/>
            <a:ext cx="8490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gne atakk - N1 perpendikulaarselt heterotsükli tasapinnaga, siis astub teise karbonüülrühmag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ktsiooni eksotsükliline NH2-rüh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kkiv tritsükliline addukt on stabiilne neutraalses keskkonnas, kuid laguneb leeliselises keskkonn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ifitseeritud G ei ole enam substraadiks RNaas T1-le ja seetõttu on modifikatsioonisaiti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tektsioon hõlb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geerivad loomulikult ainult need guanosiinid, mis ei osale sekundaar- ja tertsiaarstruktuurid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20560" y="4946760"/>
          <a:ext cx="808380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560" y="4946760"/>
                    <a:ext cx="80838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erminaalsete OH-rühmade modifitseeri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5343480" cy="347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22720" y="281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280" y="4267080"/>
            <a:ext cx="84193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NA 3’-terminus. 2’,3’-cis-dioolrühm oksüdeerub kergesti periodaadi toimel. Tekkivat dialdehüüdi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edasist degradeerumist on võimalik vältida (neutraalne pH). Aldehüüdid reageerivad neis tingimustes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kõrgete saagistega arüülhüdrasiinide või primaarsete amiinidega. Dialdehüüdi redutseerimisel NaBT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n võimalik 3’-terminust triitiumiga märgist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523880"/>
          <a:ext cx="1420920" cy="111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523880"/>
                    <a:ext cx="1420920" cy="11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133720" y="2133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42360" y="1523880"/>
            <a:ext cx="94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aI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Terminaalsete fosfaatrühmade modifitseeri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7640" y="671400"/>
            <a:ext cx="725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Modifitseeritavuse seisukohalt võivad nukleiinhapetes olla kaht tüüpi fosfomonoestrid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(terminaalsed fosfaadid):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a) DNA 5’ ja 3’ ning RNA 5’-terminuses alküülfosfaat - modifitseeritavad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b) RNA 3’ (2’) terminuses </a:t>
            </a:r>
            <a:r>
              <a:rPr b="0" lang="et-EE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-oksüalküülfosfaat - mittemodifitseeritav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3280" y="1905120"/>
            <a:ext cx="8634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Fosfomonoestri modifikatsioon on kaheetapiline protsess: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1) Fosfomonoestri modifitseerimiseks on vajalik kõigepealt ta muuta aktiivseks ühendiks: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A) aktiivseks segatud anhüdriidi tüüpi ühendiks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B) aktiveeritavaks fosfomonoestri amiidiks või aktiivseks estriks, mida on võimalik eraldada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eaktsioonisegust (sageli kasutatakse sadestamist)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2) Aktiveeritud fosfomonoestri reaktsioon nukleofiil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3432240"/>
          <a:ext cx="5952960" cy="11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32240"/>
                    <a:ext cx="595296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590920" y="41180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29880" y="3549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Y-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8360" y="37018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+ H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72000" y="34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06040" y="45370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039200" y="3580560"/>
            <a:ext cx="12182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46483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867280" y="5486400"/>
          <a:ext cx="156060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5486400"/>
                    <a:ext cx="156060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65040" y="42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RNA 3’-fosfaadi reaktsioon aktivatsioo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98640" y="1859040"/>
          <a:ext cx="376704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8640" y="1859040"/>
                    <a:ext cx="376704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0040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4240" y="3848040"/>
            <a:ext cx="199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 C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H + 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81080"/>
            <a:ext cx="1224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C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4120" y="4876920"/>
            <a:ext cx="8645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Kuigi 2’-OH-rühm on nõrk nukleofiil,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toimub reaktsioon erakordselt effektiivselt tema 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soodsa orientatsiooni tõttu fosfori aatomi suhtes. Fosfaatrühma negatiivselt laetud 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apnikuaatom aitab 2’-OH rühma deprotoneerida. Välised nukleofiilid, ka tugevad, ei suuda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selle reaktsiooni kiirusega konkureer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Fosfomonoestri aktivatsioon vesilahustuva karbodiimiid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90720" y="990720"/>
          <a:ext cx="7388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7388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52280" y="5715000"/>
          <a:ext cx="75582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5715000"/>
                    <a:ext cx="75582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flipH="1">
            <a:off x="3123360" y="4114800"/>
            <a:ext cx="274140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9914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99143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81800" y="11080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 5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3880" y="422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uH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06960" y="345960"/>
            <a:ext cx="6310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-N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         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side on neutraalses ja leeliselises keskkonnas stabiilne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R võib sisaldada mitmesuguseid reaktsioonivõimelisi rühmi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fluorestsentset rühma j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14600" y="2362320"/>
          <a:ext cx="107316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107316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057400" y="990720"/>
          <a:ext cx="168588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990720"/>
                    <a:ext cx="16858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091400" y="1382760"/>
            <a:ext cx="454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Vajab täiendavat katalüüsi Mg</a:t>
            </a:r>
            <a:r>
              <a:rPr b="0" lang="et-EE" sz="1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; reaktsioon efektiivne kõrge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kontsentratsiooni puhul (&gt;10 m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17000" y="263196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imidas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57400" y="3429000"/>
          <a:ext cx="163980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429000"/>
                    <a:ext cx="16398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946680" y="3622680"/>
            <a:ext cx="437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-Hüdroksübensotriasool (HOBT)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Ka=4.6, seega tegelikult 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438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840" y="2631960"/>
            <a:ext cx="17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roduktid on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ktiveeritud 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fosfaadig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362320"/>
            <a:ext cx="421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Imidasoliidid on stabiilsed neutraalses keskkonnas,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katalüsaatorina võib kasutada N-metüülimidasooli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või dimetüülaminopüridiini (nukleofiil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katalüsaatorid) tiitritud (pH6) lahuse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uud aluspaa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326~1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6797520" cy="5627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7400" y="624852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amuti tasapinnalised struktuu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eemiline ligeeri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4000680" cy="1952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1120" y="3124080"/>
            <a:ext cx="828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Aktivatsiooniks võib kasutada karbodiimiidi, BrCN või eelsünteesitud fosfoimidasooli või HOBT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derivaati.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Situatsioon mõnevõrra sarnane RNA 3’-fosfaadi aktivatsiooniga – aktiveeritud fosfaadiga reageerib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efektiivselt ruumiliselt lähendatud nukleofiil. Reaktsiooni saagised ulatuvad 20-90 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4343400"/>
          <a:ext cx="5643360" cy="73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343400"/>
                    <a:ext cx="56433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ukleotiididevahelise fosfaadi reaktsioon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8160" y="849240"/>
            <a:ext cx="8546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Võrreldes terminaalse fosfaadiga väikese reaktsioonivõimega. Praktilise tähtsusega on alküleerimisreaktsioon,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kus saadakse fosfotriester. RNA puhul laguneb nukleotiididevaheline fosfotriesterside eriti kergesti, aga on võimalik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fragmenteerida ka DNA-d. Idee: nukleiinhappe/valgu kompleksi struktuuri uurimisel need fosfaatrühmad, mis 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jäävad modifitseerimisreaktsioonist puutumata on peidetud sügavale kompleksi sisse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905120"/>
          <a:ext cx="1587600" cy="13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158760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514600" y="2971800"/>
            <a:ext cx="6307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aitadreseeritud reaktsioon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990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143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1143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676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371600"/>
            <a:ext cx="3048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295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32600" y="1192320"/>
            <a:ext cx="449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Lihtsaim näide 5-iooduratsüüli C-I side laguneb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UV-laservalguse toimel (325 nm) andes vaba radikaali, mis 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reageerib hästi valkude aromaatsete kõrvalahelate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85080" y="2098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494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514920" cy="981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eemiline restrikta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105000" cy="1657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162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eterotsükliliste aluste reaktsioonivõime polümeerides on väiksem kui monomeer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9240" y="1001880"/>
            <a:ext cx="8529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Reaktsioonivõime: üheahelaline&gt;kaheahelaline&gt;nukleiinhappe-valgu komple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Heterotsükli süsiniku aatomitega toimuvad reaktsioonid alati heterotsükli tasapinnaga perpendikulaarselt,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reaktsioonid lämmastikuaatomitega aga heterotsükli tasapinnas.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Süsinikuaatomite reaktsioonivõimele avaldab mõju stacking interaktsioon, puriinide N1 ja pürimidiinide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N3 on kaheahelalises struktuuris peidus. Suurde vakku seonduvad valgud ekraneerivad täiendavalt 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puriinide C8, pürimidiinide C5 ja C6 ning puriinide N7. Väikesesse vakku seonduvad valgud ekraneerivad 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täiendavalt puriinide N3.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Samas tuleb muidugi arvestada, et nukleiinhapete ruumiline struktuur on dünaamiline, ning ükski 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reaktsioonivõimet piirav faktor ei ole absoluutne.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Kasutades hästi uuritud mehhanismiga keemilisi reaktsioone või modifitseeritud oligonukleotiide, 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saab leida eksperimentaalseid argumente biomolekulide ruumilise organiseerituse mudelite kasuk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Metoodiliselt on keemiliste reaktsioonide kasutamine ruumilise struktuuri sondeerimiseks sarnane 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keemilise sekveneerimiseg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3525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155520"/>
          <a:ext cx="8763120" cy="6416640"/>
        </p:xfrm>
        <a:graphic>
          <a:graphicData uri="http://schemas.openxmlformats.org/drawingml/2006/table">
            <a:tbl>
              <a:tblPr/>
              <a:tblGrid>
                <a:gridCol w="4952880"/>
                <a:gridCol w="1219320"/>
                <a:gridCol w="990720"/>
                <a:gridCol w="609480"/>
                <a:gridCol w="990720"/>
              </a:tblGrid>
              <a:tr h="2516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g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tseerimistingimu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tsiifilis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6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. 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sio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üdroksüülamiin ja O-alküülhüdroksüülamiin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6 ja C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-alküülhüdroksüülamiin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üdroksüülami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gun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sulfit i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sulfit i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sulfitioon segus O-metüülhüdroksüülamiini (või teiste amiinideg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6 ja C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üdrasiin ja alküülhüdrasiin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üdrasi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U,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gun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omsuktsiinimi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omsuktsiinimi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vhõbe atset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itiumv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,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itiumve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küleerivad agend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7&gt;N1~N3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&gt;N3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happed (perftaalhap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etüülpürokarbon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7 ja C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bodiimiidid, akrüülonitri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T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3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ldehüü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3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üoksaal, pürovalhehüü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+N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looratsetaldehüü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-50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-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3+NH2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1+NH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ämmastikushap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õrgalt happ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amineerub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amineerub</a:t>
                      </a:r>
                      <a:br>
                        <a:rPr sz="1000"/>
                      </a:br>
                      <a:r>
                        <a:rPr b="0" lang="et-E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amineeru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800" spc="-1" strike="noStrike">
                <a:solidFill>
                  <a:srgbClr val="ffffff"/>
                </a:solidFill>
                <a:latin typeface="Times New Roman"/>
              </a:rPr>
              <a:t>Tab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040" y="22212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09600"/>
            <a:ext cx="9101160" cy="2571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8240" y="3162240"/>
            <a:ext cx="7562880" cy="2352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9640" y="5614920"/>
            <a:ext cx="887940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0 M N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H, pH10,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, 150 h - nendes tingimustes reageerivad RNAs vaid need uridiini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s ei ole kaheahelalistes fragmentides. Kõrgemal temperatuuril (37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) reageeriv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õik uridiin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97440" y="360360"/>
            <a:ext cx="39859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logeniseerimisreaktsioon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360" y="1066680"/>
            <a:ext cx="82152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logeniseerimisreaktsioonid, kui tüüpilised elektrofiilsed asendusreaktsioon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elistatud positsioonid pürimidiinides ja puriinides C5 ja C8 vastav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logeenderivaatide võime moodustada Watson-Cricki tüüpi aluspaare on praktiliselt ident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oduslike nukleotiididega. Eriti suurt rakendust on halogeenoligonukleotiidid leidnud R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uures tänu halogeenide suurele elektrontiheduse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lünukleotiidi puhul ei ole B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piisavalt selektiivne - isegi 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 juures modifitseeruvad RNA-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ii U, C kui ka 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hmema toimega broomsuktsiinimiid reageerib p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juures guanosiin, pH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juures tsütosiin. I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i ole piisavalt reaktsioonivõimeline, kuid iodeerimist saab läbi viia ICl või TlC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KI ab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5800" y="3662280"/>
            <a:ext cx="45799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22800" y="243000"/>
            <a:ext cx="258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rkureeri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03480" y="866880"/>
            <a:ext cx="6118200" cy="206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3640" y="2970360"/>
            <a:ext cx="824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ktsioon toimub väga leebetes tingimustes. Lisaks uridiinile reageerivad ka tsütosiin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ktsioon toimub ka kaheahelalise nukleiinhappe korral, arvatakse, et seda teooriale vastukäiv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akti saab seletada sellega, et elavhõbeda ioon moodustab algselt kompleksi pürimidiinide N1-g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kaleerudes heterotsüklite vahele, saavutades niimoodi vajaliku perpendikulaarse orientatsio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lektrofiilseks ataki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inevalt Grignardi reagentidest (RMgCl) on C-Hg side stabiilne, kuigi mitte reaktsioonivõime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äiteks saab elavhõbeda derivaadist ka ioodderivaate. Teine elavhõbedaderivaatide tähelepanu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äärne reaktsioon on reaktsioon merkaptoühenditega. Reaktsioon kulgeb täielikult ka mõl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genti väga madala kontsentratsiooni juu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4640" y="5481720"/>
            <a:ext cx="73278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65520" y="289080"/>
            <a:ext cx="210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toopvahe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" y="988920"/>
            <a:ext cx="8582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istatakse kiiret ja aeglast isotoopvahetust. Kiirelt vahetuvad fosfatrühmade, hüdroksüülrühm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do- ja eksotsükliliste lämmastikuaatomite juures olevad vesinikud. Prootonivahetus on kiirema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emilisi reaktsioone. Loomulikult on aga taoline vahetus täielikult pöörduv - deuteerium- või triitiu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ee asendamisel tavalise veega toimub muidugi vastipidine protsess. Aeglaselt vahetuvad prooton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üsiniku aatomite juures kõrgemal temperatuuril. Puriinide puhul toimub reaktsioon kiiremini, k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ürimidiinide puhul. Arvatakse, et N7 osaleb järgneva skeemi kohasel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39720" y="3476520"/>
            <a:ext cx="5981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1160" y="684360"/>
            <a:ext cx="79574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sotoopvahetuse kiirus C8 juures N7-metüleeritud puriinidel on võrreldav kiire isotoopvahet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iirusteg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ürimidiinidel vahetub C5 juures olev prooton, aga rohkem kui suurusjärk aeglasemalt, ku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uriini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ktsiooni katalüüsib bisulfitioonide juuresolek (C6 pöörduv modifikatsioon). Parim re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ürimidiinide C5 deutereerimiseks on aminohape tsüsteiin või lihtsam 2-merkaptoetüülamii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20600" y="2482920"/>
            <a:ext cx="709308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6:26:59Z</dcterms:created>
  <dc:creator>Tõnu Reintamm</dc:creator>
  <dc:description/>
  <dc:language>en-US</dc:language>
  <cp:lastModifiedBy>Tõnu Reintamm</cp:lastModifiedBy>
  <dcterms:modified xsi:type="dcterms:W3CDTF">2007-10-22T06:19:30Z</dcterms:modified>
  <cp:revision>8</cp:revision>
  <dc:subject/>
  <dc:title>PowerPoint Presentation</dc:title>
</cp:coreProperties>
</file>