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605-150A-402C-BC9D-4AC1EF5F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819-31A8-4CDE-9A62-FF5EA966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590-10F0-4ED4-82DA-E056A5B8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8C5-8F57-48C6-9E7C-8005E19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AD0-7C35-4A22-8215-E31A65BC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5AF-6138-435A-8B79-D4BA2827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DEB-2BAC-40C2-8E00-89234E0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F14-51AB-45EF-BB4F-DC6E8653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489-794E-4B40-9557-33734A1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92F-CC19-42EC-A51D-28FA4D4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5F4-4292-434F-87B8-4406446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74B-905B-4050-BC2D-7A99EEE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5A3-CBE7-43E6-B215-76FB8DFC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3040" y="365040"/>
            <a:ext cx="5455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ifitseeritud oligonukleotiidide sün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0920" y="1065240"/>
            <a:ext cx="8391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tseeritud oligonukleotiidide saamine on üks totaalse keemilise sünteesi viljakas rakend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ensümaatilistest meetoditest saab luua töövahendi, mis vastab täpselt konkreet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kenduse vajadustele. Sünteetiliste oligonukleotiidide laienev kasutamine diagnostikas ja tera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ias on stimuleerinud erinevaid funktsionaalsusi kandvate oligomeeride sünteesimeetod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äiustamist ja uute väljapakkumist. Kuna enamik oligonukleotiidsetest süntesaatoritest on optim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eritud kasutama amidofosfitmeetodit, on ka enamus modifikatsioonide sisseviimise meetode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üütud kooskõlastada selle meetodi protokolliga. Samas tuleb aga silmas pidada seda, et k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urema osa oligonukleotiidide kasutamisel eeldatakse, et produkt on homogeenne ja tõepool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sutatav rakendusala maskeerib kõrvalproduktid (min on suuremas või väiksemas koguses al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lemas), siis unikaalse struktuuriga analoogi kasutamisel tuleb tema struktuur põhjalikumalt tões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ing puhastada kõrvalproduktidest, et olla kindel, mis on tegelik toimeaine! Sisseviidav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id võivad puhastamisstrateegiat oluliselt mõjut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91680" y="2127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orestsei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080" y="988920"/>
            <a:ext cx="81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luorestseiinijääke on võimalik detekteerida otse (fluorestsents) või ka fluorestseiini vastu saad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tikehade abil, st. fluorestseiin on ka ühtlasi hapte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846440"/>
          <a:ext cx="744876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46440"/>
                    <a:ext cx="744876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547240" y="1674720"/>
            <a:ext cx="316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luorestseiini fenoolsed OH-rühm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javad blokeering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029200" y="190512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51800" y="212760"/>
            <a:ext cx="3824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id fluorestseeruvad rüh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66920" y="723960"/>
            <a:ext cx="6400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54920" y="365040"/>
            <a:ext cx="507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gnevate ahelatega oligonukleotii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480" y="1217520"/>
            <a:ext cx="158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Sümmeetri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480" y="4113360"/>
            <a:ext cx="16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Asümmeetri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97120" y="1327320"/>
          <a:ext cx="312120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327320"/>
                    <a:ext cx="3121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962000" y="3798720"/>
          <a:ext cx="4581720" cy="18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2000" y="3798720"/>
                    <a:ext cx="458172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336840" y="5789520"/>
            <a:ext cx="444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vuliinhappe jääk, eemaldamine: veevaba hüdrasi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7960" y="2894040"/>
            <a:ext cx="597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olise reaktiivi abil saab ahela 5'-terminusse lisada mitmeid märgise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35080" y="289080"/>
            <a:ext cx="386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'-terminuse modifitseeri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160" y="988920"/>
            <a:ext cx="834624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andardne lähenemine: saadakse polümeerne kandja, mis sisaldab modifikatsiooniga ankrut 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H-rühma (DMT-blokeeritud). Kasutamine - nagu suvalist nukleosiidset kandja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mas me juba mainisime, et mitmeid süntoonid on disainitud multifunktsionaalseteks, nagu näit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üleeriv süntoon. Teda kasutades ei pea tingimata omama spetsiaalset CPG-kandjat, et 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'-fosforüleeritud oligonukleotiidi. Selleks sobib suvaline nukleosiidne kandj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Üks levinumaid 3'-terminuse modifikatsioone on 3'-terminaalne RIBONUKLEOTI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) sünteetiliste oligodesoksünukleotiidide maatriks-sõltumatu ligeerimine RNA-ligaasi a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) periodaatne oksüdeerimine ja sellele järgnevad modifikatsioonid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) hüdrasiini derivaad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) 3'-fosforüleeritud oligonukleotiidide sünt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tseeritud nukleotiid 3'-terminuses. Igast nukleosiidi analoogist saab sünteesida 5'-DMT-3'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midofosfiti, mille abil saab teda lülitada suvalisse positsiooni oligonukleotiidis, v.a. 3'-termina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sitsioon. Kas on vaja sünteesida spetsiaalne kandja? Ei, sest kasutades fosforüleerivat sünto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ame sünteesi alustada suvalisel kandjal ning modifikatsioon, peale ammoniaagitöötlust jää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'-fosforüleerituks (3'-fosfaati on lihtne eemaldada fosfataasiga)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5520" y="243000"/>
            <a:ext cx="779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kleotiididevahelise fosfaatrühma modifikatsioon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320" y="988920"/>
            <a:ext cx="86691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üdrofosforüülmeetodil oksüdeeritakse kõik nukleotiididevahelised sidemed korraga, pe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hela elongatsiooni. Kui oksüdeerija asemel kasutada sulfureerivat agenti, siis saame fosforüü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apniku asemel väävli. Taoliselt modifitseeritud oligonukleotiidid on resistentsemad nukleaa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htes, kuid säilitavad võime komplementaarsete komplekside moodustamiseks. Nukleotiididevah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ofosfaatrühm on kiraalne ning vastavaid isomeere tähistatakse Rp ja Sp. Kuna oksüdeerimise tagajärj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kkib ratsemaat on tiofosfaatanaloogid tegelikult keerukas diasteromeeride segu (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ofosfaatrühmade lisamiseks etteantud positsiooni saab kasutada amidofosfitmeetodit, k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ksüdatsioonietapp on igas tsüklis. Sulfureeriv reagent peab olema kergesti lahustuv, seetõt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htsaim reagent (elementaarne väävel) ei sob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Üks parimaid sulfureerivaid agente on Beaucage reagent - 3H- 1,2-bensoditiol-3-oon-1,1-dioksi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00240" y="4041720"/>
          <a:ext cx="1541520" cy="14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4041720"/>
                    <a:ext cx="154152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32640" y="4341960"/>
            <a:ext cx="452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sutatakse 0.05 M lahusena veevabas atsetonitriili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tapi aeg 30 sekund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19560" y="212760"/>
            <a:ext cx="25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üülfosfon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120" y="836640"/>
            <a:ext cx="782640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Nukleotiididevaheline side ilma laenguta, muudab molekuli mittepolaarseks - siseneb hä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ak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Stabiilne igasuguste nukleaaside suh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Hüdrolüütiline stabiilsus jätab soovida. CAP-reaktsioon tingimata peale oksüdatsio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bleemid postsünteetilisel töötlusel. Vajadus kasu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ttestandartseid deblokeerimissüsteeme ja labiilseid heterotsüklite kaitserüh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Rp ja Sp isomeerid. Heterogeensu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5520" y="3220920"/>
          <a:ext cx="339552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220920"/>
                    <a:ext cx="339552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838840" y="3079800"/>
          <a:ext cx="1865160" cy="311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3079800"/>
                    <a:ext cx="186516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114560" y="2165400"/>
          <a:ext cx="1865160" cy="31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165400"/>
                    <a:ext cx="186516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877120" y="289080"/>
            <a:ext cx="2026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tiofosfaa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6520" y="912960"/>
            <a:ext cx="7768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rinevalt tiofosfaatidest ei oma stereoisomeere, nad on homogeensed. Nukleotiidide vah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de on resistentne nii keemilisele, kui ka fermentatiivse hüdrolüüsile. Selliste sidemete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ligonukleotiidide süntees ei ole veel kommertsialiseerunu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62400" y="289080"/>
            <a:ext cx="654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tteloodusliku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nomeeridest oligonukleotiid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760" y="1141560"/>
            <a:ext cx="7501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inult keemilise sünteesiga on võimalik saada. Moodustavad loodusliku DNA ja RNA-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ALLEELSEIDduplekseid. Võimsad transkriptsiooni ja translatsiooni inhibiito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lliseid oligonukleotiide saab osta firmast Appligene (mitteametlik inf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1680" y="365040"/>
            <a:ext cx="326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NA 2'-alküülderivaa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63480" y="1136520"/>
          <a:ext cx="2462400" cy="31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136520"/>
                    <a:ext cx="2462400" cy="31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718080" y="988920"/>
            <a:ext cx="517140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DNA/RNA2'-alküül heterodupleksid on stabiilsem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rmodünaamiliselt, kui DNA/RNA heterodupleks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DNA/RNA 2'-alküül heterodupleks ei lagune RNAa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imel (lagundab RNA-d DNA/RNA heteroduplek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. 2'-alküülribonukleotiide sisaldav "hammerhea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süüm (flankeerivates piirkondades) on võrreldes natiiv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süümiga stabiilsem ning teatud juhtudel on sel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ibosüüm isegi ensümaatiliselt aktiivs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. 2'-metüülderivaadid mimikeerivad edukalt looduslik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NAd olles temast erinevalt hüdrolüütiliselt stabiil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. 2'-alküülderivaatide süntees lihtne nagu DNA sünte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. 2'-metüülderivaadid on looduslikud. Seetõttu ei 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me, et taoline side on siiski mitme nukleaasi substraadi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ui esikohal on nukleaasiresistentsus, siis võib soov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'-allüülderiva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'-allüülderivaadid on Boehringer Mannheimi toode. (k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hkefaasilise sünteesi süntooni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120680" y="76320"/>
          <a:ext cx="6885000" cy="66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76320"/>
                    <a:ext cx="6885000" cy="66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03400" y="182520"/>
            <a:ext cx="531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Üks süntoon - palju variatsioone samast süntees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136440"/>
            <a:ext cx="734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ittetäielik) võimalike modifikatsioonide lokalisatsio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33720" y="1555920"/>
          <a:ext cx="1865520" cy="31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3720" y="1555920"/>
                    <a:ext cx="186552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 flipH="1" flipV="1">
            <a:off x="5715000" y="3962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914400"/>
            <a:ext cx="7617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334120" y="464832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895480" y="380988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181480" y="144792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276720"/>
            <a:ext cx="6858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79080" y="3198960"/>
            <a:ext cx="1527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tural D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= O, X =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ofosf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= O, X=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tiofosf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= S, X=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tüülfosfon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= O, X= C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ami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= O, X= N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9680" y="4037040"/>
            <a:ext cx="162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'-modifikatsi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R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31600" y="5408640"/>
            <a:ext cx="141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'-termina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99520" y="1141560"/>
            <a:ext cx="193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terotsüklilise al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06960" y="760320"/>
            <a:ext cx="141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5'-termina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417680" y="250920"/>
          <a:ext cx="6291360" cy="63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50920"/>
                    <a:ext cx="62913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247000" y="197964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3884760"/>
            <a:ext cx="71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23000" y="608040"/>
            <a:ext cx="1628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tioäädik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. metanool/D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9400" y="3198960"/>
            <a:ext cx="1364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H(C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18080" y="3808440"/>
            <a:ext cx="663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" y="303120"/>
            <a:ext cx="248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ma pürimidiinide puhu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9400" y="5560920"/>
            <a:ext cx="315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itserühmade valik ja eemaldami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ngimused siiski ei ole tavali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75480" y="289080"/>
            <a:ext cx="503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NA - peptiidse sidemega nukleiin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7043760" cy="53150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49520" y="6323040"/>
            <a:ext cx="741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nomeerid saadaval nüüd Applied Biosystemsilt. Tellimustööna ilmselt palju firmas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06480" y="212760"/>
            <a:ext cx="386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'-terminuse modifitseeri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160" y="836640"/>
            <a:ext cx="81068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. Fosforüleeri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sümaatiline fosforüleerimine on tihtipeale mittetäielik, eriti preparatiivses mastaabis (nmool+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üleerimise täielikkus on kriitiline näiteks pikkade geenide sünteesil mitmest fragmend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sforüleerimiseks saab kasutada tervet rida reagente, aga parim automaatsüntesaatori jaok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õimalikult standartne fosfaadilisamissünto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400" y="4417920"/>
            <a:ext cx="730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saldab happelabiilset tritüülrühma, mis lubab fosforüleerimisreaktsiooni monitoor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saks tsüaanoetüülrühmale veel teine leeliselabiilne rü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39920" y="2165400"/>
          <a:ext cx="476712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2165400"/>
                    <a:ext cx="47671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873080" y="954000"/>
          <a:ext cx="4767480" cy="20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954000"/>
                    <a:ext cx="4767480" cy="20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65840" y="441360"/>
            <a:ext cx="414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maarse aminorühma sünt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5480" y="3122640"/>
            <a:ext cx="7683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õnevõrra analoogne eelmise reagendiga, aga pange tähele monometoksütritüü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sutamist, sest aminorühmalt eemaldub tritüülrühm kergemini (standartne dimetoksütritüü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iga labiil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12800" y="3862440"/>
          <a:ext cx="5745240" cy="29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3862440"/>
                    <a:ext cx="574524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699160" y="5789520"/>
            <a:ext cx="3485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moc kaitserühmaga süntoon võimald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) lisada NH2 rühma ka 3'-positsio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) oligomeeri kesk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) ka mitut NH2 rühma 5'-terminu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64280" y="3740040"/>
            <a:ext cx="2577960" cy="196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6920" y="441360"/>
            <a:ext cx="419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rkapto (-SH ) rühma sünt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873080" y="1231920"/>
          <a:ext cx="476748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1231920"/>
                    <a:ext cx="47674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8440" y="3884760"/>
            <a:ext cx="7934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oolrühm on kaitstud sarnase rühmaga, aga seda polr võimalik happetöötlusega eemald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emaldamiseks tuleb kasutada AgNO3 + ditiotreitooli (mõlemaid peaksid molekulaarbiolo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boris leiduma). Universaalsema kasutusega sünto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03160" y="4818240"/>
          <a:ext cx="6908760" cy="16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4818240"/>
                    <a:ext cx="690876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7680" y="289080"/>
            <a:ext cx="514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'-terminaalne alifaatne alküülrühm j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7200" y="836640"/>
            <a:ext cx="86281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bleem: oligonukleotiidid seonduvad komplenentaarsele nukleiinhappele rakus, mõjutades sellelä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eni ekspressiooni, RNA funktsioneerimist jne., kuid nad, olles hüdrofiilsed, ei pääse läbi ra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mbraani. Paremini läbivad rakumembraani sellised oligonukleotiidid, mis on varustatud hüdrofoob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ig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92320" y="1987560"/>
          <a:ext cx="674208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1987560"/>
                    <a:ext cx="67420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67920" y="3579840"/>
            <a:ext cx="750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nge jälle tähele reagendi potensiaalset bifunktsionaalsust (DMT-blokeetitud OH rühm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8560" y="4181400"/>
          <a:ext cx="602604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8560" y="4181400"/>
                    <a:ext cx="60260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13360" y="5560920"/>
            <a:ext cx="8686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in on üsna analoogne modifikatsioonireagent, oligoetüleenlinkeriga (väga paindlik), hästi lahustu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üdrofiilne, kasutusel näiteks hairpin-struktuuriga oligote puhul (linkeriga ühendatud oligonukleotiid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agmendid on teineteisega komplementaars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0200" y="212760"/>
            <a:ext cx="86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uorestsentsete radikaalide, hapteenide jms. lisamine 5'-terminus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0400" y="836640"/>
            <a:ext cx="88092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itmed märgistena kasutatavad orgaanilised molekulid on keerulised ning sisaldavad mitme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ukleofiiflseid või muid reaktsioonivõimelisi rühmi. 1-, 2-e on võimalik ka blokeerida, aga ka s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õib osutuda keerukaks ning kalliks. Mitmeid fluorokroome või hapteene saab lisada postsünteetil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difikatsiooniga, varustades oligonukleotiidi tahkefaasilise sünteesi käigus eelpool märgit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unktsionaalse rühmaga (-NH2, fosfaat, -SH ). Selliste rühmade edasiseks modifikatsiooniks sa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sutada kommertsiaalseid, universaalseid (antud ankurrühmale) reaktiive. Selliste reaktiivide kasuta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n mõeldav ka mittekeemikute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0480" y="2575080"/>
            <a:ext cx="10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ot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3046320"/>
            <a:ext cx="86691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iotiin moodustab tugeva kompleksi avidiini ja streptavidiiniga (valgud). Tänu sellele omadus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aab biotiini väga suure tundlikkusega detekteerida, kasutades tavalisi immunuloogia detektsioon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üsteeme. Biotiini sagedase kasutamise tõttu on firmadel kasutuses spetsiaalne biotiini lisamise sünto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4181400"/>
            <a:ext cx="5476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220760" y="939960"/>
          <a:ext cx="637848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939960"/>
                    <a:ext cx="637848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74000" y="212760"/>
            <a:ext cx="198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goksügeni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4265640"/>
            <a:ext cx="873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ühma sisseviimiseks amidofosfitmeetodil ei ole seni kirjeldatud süntooni (OH-rühmad vajav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lokeerimist). 5'-terminuse modifitseerimiseks saab kasutada kommertsiaalset reagenti all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odud struktuuriga, kui oligonukleotiid on tahkegaasilise sünteesi käigus modifitseeritud NH2-rühma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2360" y="5256360"/>
            <a:ext cx="881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igokügeniini detektsiooni tundlikkus on 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-1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mooli kommertsiaalsete detektsioonisüsteemige abi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46240" y="981000"/>
          <a:ext cx="57643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981000"/>
                    <a:ext cx="5764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66120" y="2970360"/>
            <a:ext cx="86752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soraleen on tasapinnaline molekul, mis on suuteline interkaleeruma DNA naaberaluspaari vahe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60 nm valgusega kiiritades reageerib pöörduvalt püridiinide 5,6-kaksiksidemega (eelistatult tümiinig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äiksema lainepikkusega UV valguse toimel fotoaddukt laguneb regenereerides tümii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asutusala antisensetehnoloogias - a) hüdrofoobne psoraleen aitab oligonukleotiidi rakku b) moodus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ärklauaga kovalentse kompleksi. 360 nm on lainepikkus, millega kiiritamine ei ole nukleiinhapp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htlik. Fotoreaktsioonid millest ma põgusalt rääkisin (sh. tümidiini dimeeri teke) vajavad suur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ergiaga footone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soraleenist on veidi juttu ka õpikus (vt. 2.1.html (2.1.5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9240" y="28908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sora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KBFI</dc:creator>
  <dc:description/>
  <dc:language>en-US</dc:language>
  <cp:lastModifiedBy>Tõnu Reintamm</cp:lastModifiedBy>
  <dcterms:modified xsi:type="dcterms:W3CDTF">2005-11-24T16:19:36Z</dcterms:modified>
  <cp:revision>8</cp:revision>
  <dc:subject/>
  <dc:title>No Slide Title</dc:title>
</cp:coreProperties>
</file>