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1DB-0200-43EE-8A74-2915B889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683-71A2-4B46-AB7D-C7DC406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018-434F-49A0-B1B0-FD8CED14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4A8-BA51-42EE-92D0-02695DA8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6A0-8C5D-4100-8BDC-EF07D55F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053-F838-429D-B05C-564916B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628-7095-44D5-A292-943B77C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FD7-8D52-4122-A371-708DE96D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13D-C6A7-4B7C-98E6-D17FC1F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235-E097-4BF6-9C08-99675A8C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76E-7288-4E1F-8DB0-5B2E397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0B4-F520-4F6C-B7C1-B9C4DE1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ED72-A34D-4E16-9CCB-8A16B0B8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sejuhatus fosfaatrühma orgaanilisse keemias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8920" y="2438280"/>
            <a:ext cx="772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Üldised põhimõtted. Stereokeemia. Katalüü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aatide tüübid nukleiinhape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lküülfosfaat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üdrolüütiline stabiils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riliste asendajatega fosforhappe est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aatrühmade reaktsioonid kondensatsiooniagentideg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sfaatrühma aktivatsi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150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505320" cy="149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Fosfaatrühma struktu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93520" y="2666880"/>
            <a:ext cx="545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aatrühmas on  asendajad fosfori aatomi ümber paigutatud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tetraheedriliselt nagu alifaatse süsiniku puhul, aga fosfor on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entavalentne – neli sigma-sidet ja üks pi-side. Kaksiksidemega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tähistatava fosfori ja hapniku vahelise sideme kordsus on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1,7, ja üksiksidemega tähistatava fosfori ja hapniku vahelise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ideme kordsus on 1,1, mis on seotud d-orbitaalide osalemisega.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=O side on polariseeritud veelgi enam kui C=O side, mistõttu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n fosforüülne hapnik nukleofiilsem kui karboksüülne; ja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fosfori aatom elektrofiilsem kui süsiniku aat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=O sideme polariseeritusele avaldavad teised asendajad vähem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mõju kui karboksüülsetes ühendites, kuna nad ei asu P=O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idemega samas tasapin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6200640" cy="36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458120" cy="240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n2 tüüpi nukleofiilne asendusrea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840" y="2971800"/>
            <a:ext cx="3605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Sn2 mehhanism eeldab pentakoordinatiivset üleminekustruktuuri, kus kolm sidet on ekvatoriaalsed ja kaks aksiaalsed – katkev side ja tekkiv side. Taolise asenduse puhul toimub keskse aatomi konfiguratsiooni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pöördumine ehk Waldeni inversioon. Süsiniku puhul on üleminekuseisundis ekvatoriaalsed ja aksiaalsed sidemed erineva tugevusega. Viimased on nõrgad, lähedased ioonsetele sidemetele.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Fosfori saab d-orbitaalide olemasolu tõttu moodustada viis enam-vähem võrdse tugevusega sidet. See tähendab seda, et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üleminekustruktuur on stabiilsem ja pikema eluea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n2 tüüpi nukleofiilne asendusrea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620064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n1 tüüpi nukleofiilne asendusreaktsi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104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5:06:24Z</dcterms:created>
  <dc:creator>Tõnu Reintamm</dc:creator>
  <dc:description/>
  <dc:language>en-US</dc:language>
  <cp:lastModifiedBy>Tõnu Reintamm</cp:lastModifiedBy>
  <dcterms:modified xsi:type="dcterms:W3CDTF">2005-10-06T17:07:37Z</dcterms:modified>
  <cp:revision>2</cp:revision>
  <dc:subject/>
  <dc:title>Sissejuhatus fosfaatrühma orgaanilisse keemiasse </dc:title>
</cp:coreProperties>
</file>