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3C5-1D3F-48BC-99A8-934CA3EC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123-1209-4933-8278-4ABA8EA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691-5240-49D2-98C1-C56C14A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ACD-CA96-4E73-96F9-838D41FB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B7F-3641-4237-8275-BAE558EA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BD0-8E69-4520-9718-46C349A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CE8-D94D-41C8-8AD5-D559391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63D-8157-4F2A-B897-CC954E2F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14A-5515-45C3-AE73-68F4304A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49E-717D-433F-86F9-7129EFC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93F-4F5B-4154-97C0-B418E32F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828-C8A3-4CF8-B8B0-A8C0A28B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3F25E-39D8-4CE4-A9A0-F2BF291D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5440" y="395280"/>
            <a:ext cx="274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sed ja hap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7720" y="1096920"/>
            <a:ext cx="654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önstedi definitsioon: hape on aine, millest vabaneb pro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s on aine, mis seob prooto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al happel on konjugeeritud alus (negatiivse laenguga) ja i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sel on konjugeeritud hape (positiivse laenguga)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9520" y="2392200"/>
            <a:ext cx="5834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gedasti on alustele antud nende konjugeeritud hap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tsiatsioonikonstantide negatiivsed logarütm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720" y="5622840"/>
            <a:ext cx="1526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4400" y="5622840"/>
            <a:ext cx="1338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7913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943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8240" y="371808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9280" y="3336840"/>
            <a:ext cx="1651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*[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809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5120" y="379404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4080" y="3718080"/>
            <a:ext cx="1444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70480" y="3718080"/>
            <a:ext cx="1415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4560" y="5622840"/>
            <a:ext cx="730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4600" y="5318280"/>
            <a:ext cx="1575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*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791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2680" y="5775480"/>
            <a:ext cx="91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5280" y="4479840"/>
            <a:ext cx="2023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log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20360" y="458640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 =  pH - log ([A]/[HA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0520" y="1184400"/>
          <a:ext cx="908532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84400"/>
                    <a:ext cx="908532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818800" y="4343400"/>
            <a:ext cx="3275640" cy="33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" y="10464"/>
                </a:moveTo>
                <a:arcTo wR="10800" hR="10800" stAng="-10692910" swAng="10527160"/>
                <a:lnTo>
                  <a:pt x="10800" y="10800"/>
                </a:lnTo>
                <a:close/>
              </a:path>
              <a:path fill="none" w="21600" h="21600">
                <a:moveTo>
                  <a:pt x="5" y="10464"/>
                </a:moveTo>
                <a:arcTo wR="10800" hR="10800" stAng="-10692910" swAng="1052716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789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45440" y="57452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8860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21560" y="50752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16280" y="4449600"/>
            <a:ext cx="50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1120" y="323064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52920" y="1096920"/>
            <a:ext cx="120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3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67520" y="2544840"/>
            <a:ext cx="120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18800" y="4344840"/>
            <a:ext cx="3275640" cy="33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" y="10464"/>
                </a:moveTo>
                <a:arcTo wR="10800" hR="10800" stAng="-10692910" swAng="10527160"/>
                <a:lnTo>
                  <a:pt x="10800" y="10800"/>
                </a:lnTo>
                <a:close/>
              </a:path>
              <a:path fill="none" w="21600" h="21600">
                <a:moveTo>
                  <a:pt x="5" y="10464"/>
                </a:moveTo>
                <a:arcTo wR="10800" hR="10800" stAng="-10692910" swAng="1052716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89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45440" y="57452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8860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21560" y="50752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16280" y="4449600"/>
            <a:ext cx="50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14520" y="1236600"/>
          <a:ext cx="789768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236600"/>
                    <a:ext cx="78976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972360" y="307800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1360" y="94464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1560" y="2620800"/>
            <a:ext cx="120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6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00" y="1173240"/>
          <a:ext cx="89881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173240"/>
                    <a:ext cx="89881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818800" y="4343400"/>
            <a:ext cx="3275640" cy="33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" y="10464"/>
                </a:moveTo>
                <a:arcTo wR="10800" hR="10800" stAng="-10692910" swAng="10527160"/>
                <a:lnTo>
                  <a:pt x="10800" y="10800"/>
                </a:lnTo>
                <a:close/>
              </a:path>
              <a:path fill="none" w="21600" h="21600">
                <a:moveTo>
                  <a:pt x="5" y="10464"/>
                </a:moveTo>
                <a:arcTo wR="10800" hR="10800" stAng="-10692910" swAng="1052716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89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45440" y="57452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860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21560" y="50752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16280" y="4449600"/>
            <a:ext cx="50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1120" y="300204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2760" y="124920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6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4720" y="307800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98400" y="550800"/>
          <a:ext cx="8072640" cy="60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50800"/>
                    <a:ext cx="8072640" cy="60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4760" y="974880"/>
          <a:ext cx="862812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974880"/>
                    <a:ext cx="862812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187720" y="258840"/>
            <a:ext cx="359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õningaid happelisuse k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228600"/>
          <a:ext cx="8726400" cy="36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2640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68160" y="3886200"/>
          <a:ext cx="7805880" cy="28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3886200"/>
                    <a:ext cx="78058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2880" y="365040"/>
            <a:ext cx="32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mealuselised ha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960" y="1173240"/>
            <a:ext cx="6454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lik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27, 4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äävel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2.8, 1.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sfor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15, 6.82, 12.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drun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13, 4.76, 6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ürofosfor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0, 2.0, 6.12 (6.57), 8.95(9.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üsiha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35, 1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üleendiami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85, 9.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trametüleendiami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35, 1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ksametüleendiami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.76, 11.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si!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1.74, 15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560" y="4373640"/>
            <a:ext cx="7731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husti nivelleerib tugevad happed ja alused, st. kõige tugevam hape v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hüdrateeritud prooton ja tugevaim alus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81080" y="5105520"/>
          <a:ext cx="46119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105520"/>
                    <a:ext cx="4611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95840" y="51814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480" y="51055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4600" y="5562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4160" y="55627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1600" y="6095880"/>
            <a:ext cx="264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sooniumio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hüdrateeritud pro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71080" y="6110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75720" y="61102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üdroksüüli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280" y="928800"/>
            <a:ext cx="1102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4080" y="928800"/>
            <a:ext cx="1171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36400" y="852480"/>
            <a:ext cx="1171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22400" y="852480"/>
            <a:ext cx="1171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219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1219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219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2680" y="623880"/>
            <a:ext cx="6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2360" y="623880"/>
            <a:ext cx="6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46960" y="623880"/>
            <a:ext cx="6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7080" y="1157400"/>
            <a:ext cx="7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9400" y="1157400"/>
            <a:ext cx="7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1720" y="1157400"/>
            <a:ext cx="75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5280" y="1916280"/>
                <a:ext cx="250668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03520" y="1914480"/>
                <a:ext cx="23734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539040" y="1916280"/>
                <a:ext cx="210636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14320" y="3164040"/>
                <a:ext cx="65721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HPO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=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71560" y="3830760"/>
                <a:ext cx="7362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+ 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6840" y="5227560"/>
                <a:ext cx="2840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44840" y="5227560"/>
                <a:ext cx="2971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60400" y="243000"/>
                <a:ext cx="54324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4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036440" y="1706400"/>
            <a:ext cx="7401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rnaselt saame avaldada ka H2PO4, HPO4 ja PO4 kontsentratsioon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sinikioonide kontsentratsioonist ja happelisuse konstantid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4960" y="2971800"/>
          <a:ext cx="8220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971800"/>
                    <a:ext cx="8220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-85680" y="792000"/>
          <a:ext cx="9296280" cy="57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792000"/>
                    <a:ext cx="9296280" cy="57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64320" y="243000"/>
            <a:ext cx="801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runhappe juhtum (kui pKa väärtused on lähedas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3600" y="641520"/>
          <a:ext cx="8937720" cy="55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641520"/>
                    <a:ext cx="893772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818800" y="4344840"/>
            <a:ext cx="3275640" cy="336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" y="10464"/>
                </a:moveTo>
                <a:arcTo wR="10800" hR="10800" stAng="-10692910" swAng="10527160"/>
                <a:lnTo>
                  <a:pt x="10800" y="10800"/>
                </a:lnTo>
                <a:close/>
              </a:path>
              <a:path fill="none" w="21600" h="21600">
                <a:moveTo>
                  <a:pt x="5" y="10464"/>
                </a:moveTo>
                <a:arcTo wR="10800" hR="10800" stAng="-10692910" swAng="1052716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78920" y="5821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45440" y="57452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88600" y="467820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560" y="50752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840" y="406872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2720" y="185904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39440" y="201132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68240" y="3687840"/>
            <a:ext cx="107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a=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6280" y="4449600"/>
            <a:ext cx="50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4:58:59Z</dcterms:created>
  <dc:creator>KBFI</dc:creator>
  <dc:description/>
  <dc:language>en-US</dc:language>
  <cp:lastModifiedBy>Tõnu Reintamm</cp:lastModifiedBy>
  <dcterms:modified xsi:type="dcterms:W3CDTF">2006-12-04T11:34:46Z</dcterms:modified>
  <cp:revision>10</cp:revision>
  <dc:subject/>
  <dc:title>No Slide Title</dc:title>
</cp:coreProperties>
</file>