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wmf" ContentType="image/x-wmf"/>
  <Override PartName="/ppt/media/image25.png" ContentType="image/png"/>
  <Override PartName="/ppt/media/image29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28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3.png" ContentType="image/png"/>
  <Override PartName="/ppt/media/image1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92F-1DD7-47F3-8D3C-9915C6D2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F7D-25A5-4C9B-9B53-EE106C44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0C7-2539-4EB4-8B67-82B04202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87A-8F69-430A-A19F-05D9C8C5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67F-B68F-41FB-9E43-BB1181A8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CC8-CBA9-4846-B3F7-83903139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97E-C8B6-464B-B5B5-AA0AD6BF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33D-0D8F-4558-A1E1-3535F29E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D66-21FC-45EA-9ABC-6EFA09A5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E56-6F63-4F03-B13E-E286DE83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8ABD-DC5A-47B8-8FE3-3772201C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E4B-5470-46D8-8D06-C8BC45FF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6408-03D1-4022-AA18-E6883AF51D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Puriinide reaktsioon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1866960"/>
            <a:ext cx="6305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Halogeniseerimine, halogeenpuriinide reaktsioon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Isotoopvahe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Alküleerimine (dimetüülsulfaat), alküülpuriinide reaktsioon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N-oksiidi moodustumine, isoguanosi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Reaktsioon dietüülpürokarbonaadi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Reaktsioon </a:t>
            </a:r>
            <a:r>
              <a:rPr b="0" lang="et-EE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t-EE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-dioksoühendit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Deamineeri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Eteenoderivaatide moodustu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Plaatinakompleks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eaktsioon 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t-EE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-dioksoühendite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243400" cy="1793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029200" y="29718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67440" y="29368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H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3440" y="19810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H7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800600" y="4267080"/>
          <a:ext cx="1568520" cy="13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4267080"/>
                    <a:ext cx="1568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Deamineeri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09480" y="1219320"/>
          <a:ext cx="262440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26244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35268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411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952880" y="1295280"/>
          <a:ext cx="2482920" cy="374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295280"/>
                    <a:ext cx="248292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3346920" y="1717560"/>
            <a:ext cx="92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9200" y="3657600"/>
            <a:ext cx="92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Eteenoderivaatide moodustu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3520" y="1219320"/>
          <a:ext cx="2263680" cy="17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226368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3053880" y="1981080"/>
            <a:ext cx="1142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ClCH</a:t>
            </a:r>
            <a:r>
              <a:rPr b="0" lang="et-E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2438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48320" y="1447920"/>
          <a:ext cx="249696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447920"/>
                    <a:ext cx="249696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41280" y="3519360"/>
            <a:ext cx="820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denosiini eteenoderivaat on tugevalt fluorestseeruv (ergastus 280 nm,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emissioon 400 nm). Guanosiini puhul moodustub analoogne produkt N2 ja N3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osalus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laatinakomplek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19400" y="2095560"/>
            <a:ext cx="4705200" cy="2666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80080" y="5105520"/>
            <a:ext cx="717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atud plaatina kompleksides võib ühe ligandina olla puriinide N7 aatom ja selliste kompleksi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abiilsus on võrreldav kovalentse sidemeg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niversalLinkage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s</a:t>
            </a:r>
            <a:r>
              <a:rPr b="0" lang="et-EE" sz="3600" spc="-1" strike="noStrike">
                <a:solidFill>
                  <a:srgbClr val="000000"/>
                </a:solidFill>
                <a:latin typeface="Times New Roman"/>
              </a:rPr>
              <a:t>üülim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76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600" y="457200"/>
            <a:ext cx="82245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NH2-rühmade reaktsioonivõime atsüleerimisreaktsioonis on madal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t-E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O~N4C&gt;5’-OH&gt;3’-OH&gt;N6A&gt;N2G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Madala reaktsioonivõime tõttu tuleb kasutada aktiivseid atsüleerivaid agente – hapete klooranhüdriide,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koos aluseliste ja/või nukleofiilsete katalüsaatoritega. Keskkond peab olema täielikult veevaba.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Lisaks nukleosiidi aminorühmadele reageerivad paralleelselt või isegi eelistatult suhkrujäägi OH-rühmad.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2 teed probleemide lahendamisek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Täielik atsüleerimine ja OH-rühmade selektiivne deblokeerimine (estersideme leeliseline hüdrolüüs)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OH-rühmade transientne blokeerimine trimetüülkloorsilaaniga (NH</a:t>
            </a:r>
            <a:r>
              <a:rPr b="0" lang="et-E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 rühmad astuvad samuti reaktsiooni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trimetüülkloorsilaaniga, kuid trimeüülsilüülrühm asendub atsüülrühmaga. Trimetüülsilüleerimise käigus </a:t>
            </a:r>
            <a:br>
              <a:rPr sz="1400"/>
            </a:b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nukleosiidid lahustuvad hästi, trimetüülsilüülrühmad hüdrolüüsuvad nõrgalt leeliselises lahus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900080" y="2666880"/>
          <a:ext cx="6481800" cy="19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0080" y="2666880"/>
                    <a:ext cx="648180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04920" y="4648320"/>
          <a:ext cx="8665920" cy="21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48320"/>
                    <a:ext cx="866592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Halogeniseeri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09480" y="1219320"/>
          <a:ext cx="1568520" cy="15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5685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3623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54400" y="164160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54760" y="217476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t-EE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429000" y="1260360"/>
          <a:ext cx="1832040" cy="155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1260360"/>
                    <a:ext cx="1832040" cy="15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57200" y="3048120"/>
          <a:ext cx="1436760" cy="14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048120"/>
                    <a:ext cx="143676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378160" y="3921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70240" y="342900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70600" y="3962520"/>
            <a:ext cx="7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t-EE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581280" y="3124080"/>
          <a:ext cx="1681200" cy="148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3124080"/>
                    <a:ext cx="168120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71000" y="4800600"/>
            <a:ext cx="815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Elektrofiilsed asendusreaktsioonid kulgevad puriinidel positsiooni 8,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nukleofiilseid asendusreaktsioone puriini tuumas ei toimu. Broomeerimine kulgeb maksimaalsete 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saagistega heterotsükli pKa ju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Guaniini bromeerimiseks kasutatakse ka leebemaid agente nt. broom-</a:t>
            </a:r>
            <a:br>
              <a:rPr sz="1600"/>
            </a:b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suktsiinimiid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52480" y="5791320"/>
          <a:ext cx="648000" cy="92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5791320"/>
                    <a:ext cx="6480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Halogeenpuriinide nukleofiilsed asendusreaktsioon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657600" y="1295280"/>
          <a:ext cx="1681200" cy="14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295280"/>
                    <a:ext cx="168120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 flipH="1">
            <a:off x="2209680" y="2286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220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047760" y="28954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297180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8600" y="1523880"/>
          <a:ext cx="1766880" cy="147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523880"/>
                    <a:ext cx="1766880" cy="14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05720" y="1523880"/>
          <a:ext cx="2093760" cy="148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1523880"/>
                    <a:ext cx="2093760" cy="14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504720" y="4114800"/>
          <a:ext cx="2617920" cy="14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4720" y="4114800"/>
                    <a:ext cx="261792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572000" y="4191120"/>
          <a:ext cx="2278080" cy="147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191120"/>
                    <a:ext cx="227808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431800" y="171756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3800" y="1717560"/>
            <a:ext cx="123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30080" y="3124080"/>
            <a:ext cx="224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-(C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-N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47200" y="3276720"/>
            <a:ext cx="223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S-C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-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200" y="5791320"/>
            <a:ext cx="77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Toodud reaktsioonid toimuvad veekeskkonnas, aluselist hüdrolüüsi ei toimu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Fotoreaktiivsete 8-asiidoderivaatide saamiseks reaktsioon orgaanilistes lahustites, 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kõrgematel temperatuuridel (&gt;100</a:t>
            </a:r>
            <a:r>
              <a:rPr b="0" lang="et-EE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C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sotoopvahe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990720"/>
          <a:ext cx="1590840" cy="15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159084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514600" y="1828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7920" y="1336680"/>
            <a:ext cx="188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1. T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O, 100</a:t>
            </a:r>
            <a:r>
              <a:rPr b="0" lang="et-EE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495680" y="1143000"/>
          <a:ext cx="182088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143000"/>
                    <a:ext cx="182088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438640" y="1870200"/>
            <a:ext cx="176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2. 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O, 20</a:t>
            </a:r>
            <a:r>
              <a:rPr b="0" lang="et-EE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0080" y="3086280"/>
            <a:ext cx="819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Analoogselt toimub reaktsioon ka adeniinijäägis. Kasutatakse nukleiin-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hapete radioaktiivseks märkimiseks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Millise pH juures tuleks reaksiooni läbi viia? Millised vesinikud asenduvad esimeses ja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teises etapi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lküleerimine. Guanosi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990720"/>
          <a:ext cx="1590840" cy="15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159084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210760" y="1104840"/>
            <a:ext cx="163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OSO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1676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7800" y="17524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H=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68800" y="2816280"/>
            <a:ext cx="22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OSO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, CH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2000" y="32004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H&gt;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800600" y="914400"/>
          <a:ext cx="1951200" cy="18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914400"/>
                    <a:ext cx="195120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3520" y="4038480"/>
          <a:ext cx="1942920" cy="186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038480"/>
                    <a:ext cx="1942920" cy="18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flipH="1">
            <a:off x="4952880" y="29718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28954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46080" y="281952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et-EE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2880" y="2784600"/>
            <a:ext cx="70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57600" y="4038480"/>
          <a:ext cx="1413000" cy="97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038480"/>
                    <a:ext cx="14130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 flipH="1" flipV="1">
            <a:off x="6781680" y="1599840"/>
            <a:ext cx="609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208560" y="4249800"/>
          <a:ext cx="1646280" cy="1006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08560" y="4249800"/>
                    <a:ext cx="164628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lküleerimine. Adenosi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914400"/>
          <a:ext cx="188928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188928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210760" y="1104840"/>
            <a:ext cx="163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OSO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0" lang="et-EE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1676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7800" y="17524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H=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876920" y="990720"/>
          <a:ext cx="2624040" cy="174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990720"/>
                    <a:ext cx="262404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-9000" y="2971800"/>
            <a:ext cx="90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Adeniin alküleerub alati peamiselt positsiooni N1.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Reageerib ka terminaalne fosfaat (pH!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Väga väikese kiirusega reageerivad ka N3 ja N7. N1-metüüladenosiin on hüdrolüütiliselt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stabiilsusest võrreldav adenosiiniga, N3 ja N7-adenosiini derivaadid on sarnaselt 7-metüül-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guanosiiniga kergesti lagunev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N1-metüüladenosiini heterotsükli pKa on 8 juu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4876920"/>
          <a:ext cx="2624040" cy="17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876920"/>
                    <a:ext cx="262404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2767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9200" y="522288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t-EE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00600" y="4800600"/>
          <a:ext cx="2624040" cy="174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4800600"/>
                    <a:ext cx="262404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 flipH="1">
            <a:off x="3276360" y="5943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lküleerimine. Dimrothi reaktsi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1752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91000" y="838080"/>
          <a:ext cx="2759040" cy="17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1000" y="838080"/>
                    <a:ext cx="2759040" cy="17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0" y="914400"/>
          <a:ext cx="2624040" cy="174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14400"/>
                    <a:ext cx="262404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705720" y="18288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4495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95280" y="3276720"/>
          <a:ext cx="2482920" cy="20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276720"/>
                    <a:ext cx="24829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4114800" y="4419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665680" y="3289320"/>
          <a:ext cx="2265480" cy="202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65680" y="3289320"/>
                    <a:ext cx="226548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677960" y="83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65720" y="776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30440" y="3672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50160" y="380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3400" y="5600880"/>
            <a:ext cx="85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Reaktsioon toimub nõrgalt leeliselises keskkonnas (pH9), analoogselt reageerivad ka teised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N1-alküüladenosiini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N-oksiidi moodustu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4920" y="914400"/>
          <a:ext cx="188892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18889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514600" y="1828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23960" y="1260360"/>
            <a:ext cx="23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, CH</a:t>
            </a:r>
            <a:r>
              <a:rPr b="0" lang="et-EE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CO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029200" y="762120"/>
          <a:ext cx="2587680" cy="174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762120"/>
                    <a:ext cx="258768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 flipH="1">
            <a:off x="4495680" y="266688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00760" y="27082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UV-val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15160" y="31654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H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044800" y="4114800"/>
          <a:ext cx="2482920" cy="17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44800" y="4114800"/>
                    <a:ext cx="248292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089680" y="407988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isoguanosi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60000" y="4533840"/>
            <a:ext cx="25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Kunstlik nukleotiidipaar –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isoguanosiin/isotsütidi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97920" cy="1541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47680" y="3352680"/>
            <a:ext cx="8896320" cy="1898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eaktsioon dietüülpürokarbonaad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1960" y="5334120"/>
            <a:ext cx="65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asutatakse nukleiinhapete keemilisel sekveneerimisel (A&gt;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21:54:50Z</dcterms:created>
  <dc:creator>kppo</dc:creator>
  <dc:description/>
  <dc:language>en-US</dc:language>
  <cp:lastModifiedBy>Tõnu Reintamm</cp:lastModifiedBy>
  <dcterms:modified xsi:type="dcterms:W3CDTF">2008-09-29T11:58:54Z</dcterms:modified>
  <cp:revision>4</cp:revision>
  <dc:subject/>
  <dc:title>Puriinide reaktsioonid</dc:title>
</cp:coreProperties>
</file>