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2.wmf" ContentType="image/x-wmf"/>
  <Override PartName="/ppt/media/image27.png" ContentType="image/png"/>
  <Override PartName="/ppt/media/image4.png" ContentType="image/png"/>
  <Override PartName="/ppt/media/image34.png" ContentType="image/png"/>
  <Override PartName="/ppt/media/image7.wmf" ContentType="image/x-wmf"/>
  <Override PartName="/ppt/media/image28.png" ContentType="image/png"/>
  <Override PartName="/ppt/media/image13.wmf" ContentType="image/x-wmf"/>
  <Override PartName="/ppt/media/image30.png" ContentType="image/png"/>
  <Override PartName="/ppt/media/image8.wmf" ContentType="image/x-wmf"/>
  <Override PartName="/ppt/media/image14.png" ContentType="image/png"/>
  <Override PartName="/ppt/media/image9.wmf" ContentType="image/x-wmf"/>
  <Override PartName="/ppt/media/image35.png" ContentType="image/png"/>
  <Override PartName="/ppt/media/image36.png" ContentType="image/png"/>
  <Override PartName="/ppt/media/image11.wmf" ContentType="image/x-wmf"/>
  <Override PartName="/ppt/media/image26.png" ContentType="image/png"/>
  <Override PartName="/ppt/media/image3.png" ContentType="image/png"/>
  <Override PartName="/ppt/media/image33.png" ContentType="image/png"/>
  <Override PartName="/ppt/media/image16.wmf" ContentType="image/x-wmf"/>
  <Override PartName="/ppt/media/image6.wmf" ContentType="image/x-wmf"/>
  <Override PartName="/ppt/media/image10.wmf" ContentType="image/x-wmf"/>
  <Override PartName="/ppt/media/image25.png" ContentType="image/png"/>
  <Override PartName="/ppt/media/image2.png" ContentType="image/png"/>
  <Override PartName="/ppt/media/image32.png" ContentType="image/png"/>
  <Override PartName="/ppt/media/image5.wmf" ContentType="image/x-wmf"/>
  <Override PartName="/ppt/media/image29.wmf" ContentType="image/x-wmf"/>
  <Override PartName="/ppt/media/image31.png" ContentType="image/png"/>
  <Override PartName="/ppt/media/image1.png" ContentType="image/png"/>
  <Override PartName="/ppt/media/image24.png" ContentType="image/png"/>
  <Override PartName="/ppt/media/image15.png" ContentType="image/png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361E-87EC-4DF1-9AF5-4400B71C0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59FF-CD36-4640-A0E6-5AD9B00CD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89C7-C75B-435A-993B-8EBBC627F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7ACD-D55E-4D6A-AE6C-72EB8ED45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DF22-6A47-47A2-8397-9EC80E48A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B078-71D3-410F-A922-1381481BB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D939-01FA-424E-8F10-DF2011BAC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4F4E-4DF5-4E3F-A9DE-FEE913CE4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20C6-55FB-41BD-98E3-C03B5C0F1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12AC-A2F8-4151-88C9-D8F2D6BF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ED21-7DAA-47BA-9683-D5B420F0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33BC-7403-4E84-BAE7-42984CA11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50743-BDF4-4238-9D62-7BF76A0F08E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3.wmf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2.wmf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Nukleiinhapete keemiline sekveneerim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07840" y="2479680"/>
            <a:ext cx="7742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Sekveneerimine – primaarstruktuuri määra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Nukleiinhappe keemiline sekveneerimine – nukleiinhappe </a:t>
            </a:r>
            <a:br>
              <a:rPr sz="2400"/>
            </a:b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primaarstruktuuri määramine metodoloogia, kus terminaalselt</a:t>
            </a:r>
            <a:br>
              <a:rPr sz="2400"/>
            </a:b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märgistatud nukleiinhappe ahel fragmenteeritakse </a:t>
            </a:r>
            <a:r>
              <a:rPr b="0" lang="et-EE" sz="2400" spc="-1" strike="noStrike" u="sng">
                <a:solidFill>
                  <a:srgbClr val="000000"/>
                </a:solidFill>
                <a:uFillTx/>
                <a:latin typeface="Times New Roman"/>
              </a:rPr>
              <a:t>osaliselt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lämmastikalusspetsiifiliste keemiliste reaktsioonide abil ja </a:t>
            </a:r>
            <a:br>
              <a:rPr sz="2400"/>
            </a:b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saaduseid analüüsitakse PAAG elektroforees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RNA keemilise sekveneerimise alusspetsiifilised reaktsioon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-101160" y="852480"/>
            <a:ext cx="7157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Puriinid : </a:t>
            </a: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G – dimetüülsulfaat + NaBH4 + aniliin pH4.6</a:t>
            </a:r>
            <a:br>
              <a:rPr sz="2000"/>
            </a:b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A&gt;G – dietüülpürokarbonaat + aniliin pH4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Pürimidiinid:</a:t>
            </a: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U&gt;&gt;C – hüdrasiin + aniliin pH4.6</a:t>
            </a:r>
            <a:br>
              <a:rPr sz="2000"/>
            </a:b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C&gt;U – hüdrasiin 3M NaCl + aniliin pH4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562720" y="2590920"/>
            <a:ext cx="3112920" cy="38494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29480" y="2604960"/>
            <a:ext cx="5357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RNA-d on võimalik ka astmeliselt </a:t>
            </a:r>
            <a:br>
              <a:rPr sz="2000"/>
            </a:b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degradeerida. Ajalooliselt esimene ja ainus</a:t>
            </a:r>
            <a:br>
              <a:rPr sz="2000"/>
            </a:b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sekveneerimismeetod, mis võimaldab </a:t>
            </a:r>
            <a:br>
              <a:rPr sz="2000"/>
            </a:b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lämmastikaluse identifitseerida. Kuna reaktsioonid</a:t>
            </a:r>
            <a:br>
              <a:rPr sz="2000"/>
            </a:b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ei kulge kvantitatiivsete saagistega, saab määrata</a:t>
            </a:r>
            <a:br>
              <a:rPr sz="2000"/>
            </a:b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kuni 10-20 nukleotii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RNA sekveneerimine spetsiifiliste RNaaside ab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202~1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6801120" cy="33717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72800" y="4495680"/>
            <a:ext cx="86936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RNaas A (pankrease ribonukleaas, RNaas I) – </a:t>
            </a: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U+C</a:t>
            </a:r>
            <a:br>
              <a:rPr sz="1600"/>
            </a:b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RNaas T1(guanüülribonukleaas, </a:t>
            </a:r>
            <a:r>
              <a:rPr b="0" i="1" lang="et-EE" sz="1600" spc="-1" strike="noStrike">
                <a:solidFill>
                  <a:srgbClr val="000000"/>
                </a:solidFill>
                <a:latin typeface="Times New Roman"/>
              </a:rPr>
              <a:t>Aspergillus oryzae</a:t>
            </a: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 ribonukleaas) –</a:t>
            </a: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 G</a:t>
            </a:r>
            <a:br>
              <a:rPr sz="1600"/>
            </a:b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RNaas U2 (adenüülribonukleaas) – </a:t>
            </a: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br>
              <a:rPr sz="1600"/>
            </a:b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RNaas Phv M –</a:t>
            </a: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A+U</a:t>
            </a:r>
            <a:br>
              <a:rPr sz="1600"/>
            </a:b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leeliseline hüdrolüüs - </a:t>
            </a: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kõik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Saab kasutada märkimist g-32P-ATP ja polünukleotiidkinaasiga (erinevalt keemilisest sekveneerimise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7899480" cy="56131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RNaasi mehhan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Times New Roman"/>
              </a:rPr>
              <a:t>Terminaalse nukleotiidi määram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838080" y="1066680"/>
          <a:ext cx="6924960" cy="143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066680"/>
                    <a:ext cx="6924960" cy="14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2213640" y="99072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fosfata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81720" y="609480"/>
            <a:ext cx="1398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Maomürg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fosfodiestera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692600" y="2009880"/>
            <a:ext cx="1398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Põrn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fosfodiestera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7720" y="2690640"/>
            <a:ext cx="77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Maomürgi fosfodiesteraasitöötluse ainuke nukleosiidne produkt on 5’-terminaalne,</a:t>
            </a:r>
            <a:br>
              <a:rPr sz="1800"/>
            </a:b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põrna fosfodiesteraasitöötluse ainuke nukleosiidne produkt on 3’-terminaal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75440" y="3352680"/>
            <a:ext cx="491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Nukleotiidse koostise määram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39120" y="4052880"/>
            <a:ext cx="8712000" cy="19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DNA,RNA – happeline hüdrolüüs lämmastikalusteks (70 % HClO</a:t>
            </a:r>
            <a:r>
              <a:rPr b="0" lang="et-EE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, 100</a:t>
            </a:r>
            <a:r>
              <a:rPr b="0" lang="et-EE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 C, 1 h; </a:t>
            </a:r>
            <a:br>
              <a:rPr sz="2000"/>
            </a:b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või 100 % HCOOH 175</a:t>
            </a:r>
            <a:r>
              <a:rPr b="0" lang="et-EE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 C, 2 h).</a:t>
            </a:r>
            <a:br>
              <a:rPr sz="2000"/>
            </a:b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RNA – happeline hüdrolüüs pürimidiinnukleosiid-3’(2’)-fosfaatideks ja puriinideks</a:t>
            </a:r>
            <a:br>
              <a:rPr sz="2000"/>
            </a:b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(1 M HCl, 100</a:t>
            </a:r>
            <a:r>
              <a:rPr b="0" lang="et-EE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 C, 1 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RNA -leeliseline hüdrolüüs nukleosiid-3’(2’)-fosfaatideks </a:t>
            </a:r>
            <a:br>
              <a:rPr sz="2000"/>
            </a:b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(0.3 M KOH, 37</a:t>
            </a:r>
            <a:r>
              <a:rPr b="0" lang="et-EE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 C, 20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Times New Roman"/>
              </a:rPr>
              <a:t>Tahkefaasiline sekveneerim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96080" y="928800"/>
            <a:ext cx="86936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Sekveneerimisreaktsioonide eripära seisneb selles, et reaktsioonisügavus peab </a:t>
            </a:r>
            <a:br>
              <a:rPr sz="2000"/>
            </a:b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olema täpselt kontrollitud – liiga väike reaktsioonisügavus toob kaasa nõrgad</a:t>
            </a:r>
            <a:br>
              <a:rPr sz="2000"/>
            </a:b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signaalid (palju märgistatud algmaterjali jääb intaktseks), liiga suu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reaktsioonisügavus toob kaasa samuti nõrgad signaalid (enamik molekule laguneb</a:t>
            </a:r>
            <a:br>
              <a:rPr sz="2000"/>
            </a:b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muuhulgas ka märgisele kõige lähemal asetseva nukleotiidi kohalt).</a:t>
            </a:r>
            <a:br>
              <a:rPr sz="2000"/>
            </a:b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Seega on täpne reaktsiooniaeg otsustava tähtsusega. </a:t>
            </a:r>
            <a:br>
              <a:rPr sz="2000"/>
            </a:b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Suure hulga oligonukleotiidide paralleelsel sekveneerimisel on raske garanteerida</a:t>
            </a:r>
            <a:br>
              <a:rPr sz="2000"/>
            </a:b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täpsed reaktsiooniajad kõigile proovidele, kui reaktsioone viia läbi eraldi anumates.</a:t>
            </a:r>
            <a:br>
              <a:rPr sz="2000"/>
            </a:b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Oluliseks lihtsustuseks on tahkefaasiline sekveneerimine, kus sekveneeritavad </a:t>
            </a:r>
            <a:br>
              <a:rPr sz="2000"/>
            </a:b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proovid on kantud tahkele kandjale ning analoogsed reaktsioonid erinevate </a:t>
            </a:r>
            <a:br>
              <a:rPr sz="2000"/>
            </a:b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oligonukleotiididega viiakse läbi samas anumas. Kandjaks on anioniitpaber, kuhu </a:t>
            </a:r>
            <a:br>
              <a:rPr sz="2000"/>
            </a:b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polüanioonne oligonukleotiid sorbeerub tugevasti. Reaktsioonid lõpetab reaktiivi</a:t>
            </a:r>
            <a:br>
              <a:rPr sz="2000"/>
            </a:b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liia eemaldamine ja filtrite pesemine. Desorbtsioon ja ahela fragmenteerimis-</a:t>
            </a:r>
            <a:br>
              <a:rPr sz="2000"/>
            </a:b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reaktsioon (reaktsiooni kestvusele vähe tundlik) viiakse läbi individuaalselt </a:t>
            </a:r>
            <a:br>
              <a:rPr sz="2000"/>
            </a:b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igale oligonukleotiidile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kveneerimismeetodid, mis põhinevad komplementaarse ahela sünteesi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7057800" cy="26859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9080" y="3581280"/>
            <a:ext cx="91357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Sekveneerimiseks kasutatakse laialdaselt polümeraase – DNA sekveneerimiseks</a:t>
            </a:r>
            <a:br>
              <a:rPr sz="1600"/>
            </a:b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enamasti termostabiilsest bakterist eraldatud DNA polümeraasi, RNA sekveneerimi-</a:t>
            </a:r>
            <a:br>
              <a:rPr sz="1600"/>
            </a:b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seks pöördtranskriptaasi.</a:t>
            </a:r>
            <a:br>
              <a:rPr sz="1600"/>
            </a:b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Peale ahela, mida kopeeritakse, vajavad polümeraasid praimerit, tüüpiliselt 15-20 meer</a:t>
            </a:r>
            <a:br>
              <a:rPr sz="1600"/>
            </a:b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Praimeri 5’ terminus võib olla vaba (5’-OH), fosforüleeritud või kanda suuremat</a:t>
            </a:r>
            <a:br>
              <a:rPr sz="1600"/>
            </a:b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modifikatsiooni, aga tingimata peab praimeril olema vaba 3’-OH rühm. Ahelat elongeeritakse desoksü-</a:t>
            </a:r>
            <a:br>
              <a:rPr sz="1600"/>
            </a:b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nukleosiid-5’-trifosfaatidega. ahela süntees peatatakse trifosfaadi analoogiga (terminaatoriga), mis asendab </a:t>
            </a:r>
            <a:br>
              <a:rPr sz="1600"/>
            </a:b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elongatsioonireaktsioonis statistiliselt looduslikku trifosfaati. 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eemiliselt on nukleotiididevahelise fosfodiestersideme süntees polümeraasi abil nukleofiilne asendus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fosfori aatomi juures - hüdroksüülrühma hapniku aatom omades negatiivset osalaengut atakeerib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nukleosiid-5'-fosfaadi alfa fosfori aatomit ning pürofosfaatrühm on lahkuvaks asendajaks.</a:t>
            </a:r>
            <a:br>
              <a:rPr sz="1600"/>
            </a:b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Terminaatoril puudub 3’-OH rühm (didesoksü- ja 3’-asiido) või on ta valesti orienteeritud (arabiinoanaloogi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114800" y="1523880"/>
            <a:ext cx="51814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Polümerisatsiooniproduktide visualiseerimiseks kasutatak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radioaktiivset või fluorestsentset märgistus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Radiaktiivne märgis võib sisalduda praimeris </a:t>
            </a:r>
            <a:br>
              <a:rPr sz="1600"/>
            </a:b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(5’-32P-fosfaat, 5’-fluorestsentsmärgis) või ahela pikendamiseks kasutatavas </a:t>
            </a:r>
            <a:br>
              <a:rPr sz="1600"/>
            </a:b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desoksünukleosiid-5’-trifosfaadis (</a:t>
            </a:r>
            <a:r>
              <a:rPr b="0" lang="et-EE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-positsioonis võib olla nii </a:t>
            </a:r>
            <a:r>
              <a:rPr b="0" lang="et-EE" sz="1600" spc="-1" strike="noStrike" baseline="30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P kui ka </a:t>
            </a:r>
            <a:r>
              <a:rPr b="0" lang="et-EE" sz="1600" spc="-1" strike="noStrike" baseline="30000">
                <a:solidFill>
                  <a:srgbClr val="000000"/>
                </a:solidFill>
                <a:latin typeface="Times New Roman"/>
              </a:rPr>
              <a:t>35</a:t>
            </a: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S) või termineerivas desoksünukleosiid-5’-trifosfaadi analoogis (enamasti fluorestsentmärgis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52280" y="3733920"/>
            <a:ext cx="5877000" cy="285732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Märgised. Terminaator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52280" y="1371600"/>
          <a:ext cx="3760920" cy="2130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371600"/>
                    <a:ext cx="3760920" cy="21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771560" y="1143000"/>
            <a:ext cx="5600880" cy="45720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Times New Roman"/>
              </a:rPr>
              <a:t>Fluorokroomid sekveneerimisek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4705200" cy="34574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029200" y="1143000"/>
            <a:ext cx="3952800" cy="2448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520" y="4191120"/>
            <a:ext cx="827496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kromofoo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COOH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NH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-(CH</a:t>
            </a:r>
            <a:r>
              <a:rPr b="0" lang="en-GB" sz="20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000" spc="-1" strike="noStrike" baseline="-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HP(=O)(O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-O-5'-oligonukleotiid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kromofoo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CONH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-(CH</a:t>
            </a:r>
            <a:r>
              <a:rPr b="0" lang="en-GB" sz="20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000" spc="-1" strike="noStrike" baseline="-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HP(=O)(O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-O-5'-oligonukleotiid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kromofoo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-NH-CO-CH2-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H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-(CH2)3-O-P(=O)(O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-O-5'-oligonukleotiid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kromofoo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-NH-CO-CH2-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-(CH2)3-O-P(=O)(O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-O-5'-oligonukleotiid 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39640" y="1066680"/>
            <a:ext cx="5200920" cy="521028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Värvterminaatorite</a:t>
            </a: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struktu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291360" y="1527120"/>
            <a:ext cx="2817720" cy="44229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525440" y="595008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BigDy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Terminaalse märgistamise meetod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79240" y="727200"/>
            <a:ext cx="7788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DNA</a:t>
            </a:r>
            <a:br>
              <a:rPr sz="2400"/>
            </a:b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a) 5’-terminus polünukleotiidkinaas</a:t>
            </a:r>
            <a:br>
              <a:rPr sz="2400"/>
            </a:b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b) 3’-terminus terminaalne transferaas + leeliseline tööt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RNA</a:t>
            </a:r>
            <a:br>
              <a:rPr sz="2400"/>
            </a:b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a) 5’-terminus polünukleotiidkinaas (</a:t>
            </a:r>
            <a:r>
              <a:rPr b="0" lang="et-EE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-ATP)</a:t>
            </a:r>
            <a:br>
              <a:rPr sz="2400"/>
            </a:b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b) 3’-terminus pCp ja RNA liga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38080" y="3124080"/>
            <a:ext cx="5000760" cy="704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38080" y="4419720"/>
            <a:ext cx="67723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7496280" cy="138132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Kapillaarelektroforeogram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17960" y="3214800"/>
            <a:ext cx="8760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Komplekti värvterminaatoritega saab sekveneerid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1) 1 reaktsioon (sekveneeritav maatriks, praimer, dNTP, 4 terminaatorit märgistatud</a:t>
            </a:r>
            <a:br>
              <a:rPr sz="2000"/>
            </a:b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erinevate kromofooridega)</a:t>
            </a:r>
            <a:br>
              <a:rPr sz="2000"/>
            </a:b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2) Produktide analüüs ühel rajal ehk kapillaar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523880" y="1371600"/>
            <a:ext cx="4876920" cy="28605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419040" y="5119560"/>
            <a:ext cx="8440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Euroopiumi, Terbiumi, Samaariumi and Ütterbiumi kelaadid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kitsad spektrid, ergastatud oleku pikk eluiga, mis võimaldab registreerida signaal</a:t>
            </a:r>
            <a:br>
              <a:rPr sz="2000"/>
            </a:b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peale ergastamist (=müra praktiliselt puudub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5267520" cy="49816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Terminaalne transfera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PAAG elektrofo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838080"/>
            <a:ext cx="91440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Neutraalse pH juures omavad on n ja n+1 pikkustega nukleiinhappe oligomeerid laengut vastavalt n(-) ja n+1(-). Kuna elektroforeetilise liikuvuse määrab ära mitte summaarne laeng, vaid MASSI JA LAENGU SUHE, mis on oligonukleotiidide puhul esmases lähenduses konstantne, siis peaksid oligomeerid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liikuma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elektriväljas ühesuguse kiirusega. Tõepoolest, kui oligomeeridele on tagatud VABA liikumine, siis see nii ka on. </a:t>
            </a: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Nukleiinhappe molekuli liikumisel läbi poorse materjali saab otsustavaks tema suurus ja kuju.</a:t>
            </a:r>
            <a:br>
              <a:rPr sz="1600"/>
            </a:b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Nukleiinhappe molekule võib ette kujutada kui kette, mille lülideks on nukleotiidid. Kui pooride suurus on palju suurem ketilülidest, siis sarnaselt takistuseta elektroforeesiga lahutust ei toimu. Kui pooride diameeter on 20-50 angströmi, mis on palju väiksem kui keti pikkus, aga suurem lüli diameetrist, ilmnevad erineva pikkusega molekulidel maksimaalsed liikuvuse erinevused.</a:t>
            </a:r>
            <a:br>
              <a:rPr sz="1600"/>
            </a:b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Akrüülamiidi ja metüleen-bisakrüülamiidi vesilahuses toimuv radikaalne polümerisatsioonireaktsioon annab sobivate omadustega geeli lineaarsete molekulide elektroforeetiliseks lahutamiseks. Varieerudes akrüülamiidi kontsentratsiooni, saab tekitada mistahes keskmise poori suurusega keskkond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80880" y="4038480"/>
            <a:ext cx="4838760" cy="2324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" name=""/>
          <p:cNvGraphicFramePr/>
          <p:nvPr/>
        </p:nvGraphicFramePr>
        <p:xfrm>
          <a:off x="5562720" y="4343400"/>
          <a:ext cx="3200400" cy="2324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62720" y="4343400"/>
                    <a:ext cx="3200400" cy="23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304920" y="485640"/>
          <a:ext cx="2334960" cy="279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85640"/>
                    <a:ext cx="2334960" cy="27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3505320" y="609480"/>
          <a:ext cx="2334960" cy="279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609480"/>
                    <a:ext cx="2334960" cy="27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3200400" y="1752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742840" y="1905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81480" y="2209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059800" y="234648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095880" y="1295280"/>
          <a:ext cx="443160" cy="480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5880" y="1295280"/>
                    <a:ext cx="44316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6095880" y="19051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2280" y="5410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81280" y="47242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7162920" y="4343400"/>
          <a:ext cx="1170000" cy="492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162920" y="4343400"/>
                    <a:ext cx="117000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7162920" y="5486400"/>
          <a:ext cx="1292040" cy="816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162920" y="5486400"/>
                    <a:ext cx="1292040" cy="8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6578640" y="762120"/>
          <a:ext cx="2490840" cy="2790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78640" y="762120"/>
                    <a:ext cx="2490840" cy="27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 flipH="1" flipV="1">
            <a:off x="8075880" y="2193840"/>
            <a:ext cx="612000" cy="336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460" y="1057"/>
                </a:moveTo>
                <a:arcTo wR="10800" hR="10800" stAng="-3866193" swAng="3507322"/>
                <a:lnTo>
                  <a:pt x="10800" y="10800"/>
                </a:lnTo>
                <a:close/>
              </a:path>
              <a:path fill="none" w="21600" h="21600">
                <a:moveTo>
                  <a:pt x="15460" y="1057"/>
                </a:moveTo>
                <a:arcTo wR="10800" hR="10800" stAng="-3866193" swAng="3507322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759800" y="2438280"/>
            <a:ext cx="329040" cy="15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06693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066936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838080" y="3657600"/>
          <a:ext cx="2502000" cy="2949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38080" y="3657600"/>
                    <a:ext cx="2502000" cy="29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4419720" y="3657600"/>
          <a:ext cx="2346120" cy="20336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419720" y="3657600"/>
                    <a:ext cx="2346120" cy="20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 flipV="1">
            <a:off x="6934320" y="495252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7724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00200" y="519588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00600" y="466236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DNA ahela katkemise skeem keemilisel sekveneerimis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232~1" descr=""/>
          <p:cNvPicPr/>
          <p:nvPr/>
        </p:nvPicPr>
        <p:blipFill>
          <a:blip r:embed="rId1"/>
          <a:stretch/>
        </p:blipFill>
        <p:spPr>
          <a:xfrm>
            <a:off x="2222640" y="1593720"/>
            <a:ext cx="4697280" cy="36687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881440" y="471600"/>
            <a:ext cx="410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pGACTACCGTACCTAGCATA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DNA keemilise sekveneerimise alusspetsiifilised reaktsioon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-95400" y="838080"/>
            <a:ext cx="9414360" cy="34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Puriinid: </a:t>
            </a: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2000" spc="-1" strike="noStrike">
                <a:solidFill>
                  <a:srgbClr val="ff0000"/>
                </a:solidFill>
                <a:latin typeface="Times New Roman"/>
              </a:rPr>
              <a:t>G+A</a:t>
            </a: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 – apurinisatsioon happelises keskkonnas (loeng 1, slaid 31,32)</a:t>
            </a:r>
            <a:br>
              <a:rPr sz="2000"/>
            </a:b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2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 – dimetüülsulfaat + piperidiin (Loeng 3, slaid 5)</a:t>
            </a:r>
            <a:br>
              <a:rPr sz="2000"/>
            </a:b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A&gt;G – dietüülpürokarbonaat (Loeng 3, slaid 9)</a:t>
            </a:r>
            <a:br>
              <a:rPr sz="2000"/>
            </a:b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(G&gt;A – dimetüülsulfaat + 95</a:t>
            </a:r>
            <a:r>
              <a:rPr b="0" lang="et-EE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 C pH7 + piperidiin)</a:t>
            </a:r>
            <a:br>
              <a:rPr sz="2000"/>
            </a:b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(A&gt;G – dimetüülsulfaat + hape + NaOH)</a:t>
            </a:r>
            <a:br>
              <a:rPr sz="2000"/>
            </a:b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(G – metüleensinine + piperidi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Pürimidiinid:</a:t>
            </a: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2000" spc="-1" strike="noStrike">
                <a:solidFill>
                  <a:srgbClr val="ff0000"/>
                </a:solidFill>
                <a:latin typeface="Times New Roman"/>
              </a:rPr>
              <a:t>C+T</a:t>
            </a: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 – 17-18 M hüdrasiin + piperidiin (Loeng 2, slaid 14)</a:t>
            </a:r>
            <a:br>
              <a:rPr sz="2000"/>
            </a:b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 – 17-18 M hüdrasiin 1M NaCl + piperidiin (Loeng 2, slaid 14)</a:t>
            </a:r>
            <a:br>
              <a:rPr sz="2000"/>
            </a:b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C – NH</a:t>
            </a:r>
            <a:r>
              <a:rPr b="0" lang="et-EE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OH pH6 + piperidiin (Loeng 2, slaid 12)</a:t>
            </a:r>
            <a:br>
              <a:rPr sz="2000"/>
            </a:b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T – KMnO4 või OsO4 + piperidiin Loeng 2, slaid 1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A ja C:</a:t>
            </a: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A&gt;C – NaOH + piperid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247~1" descr=""/>
          <p:cNvPicPr/>
          <p:nvPr/>
        </p:nvPicPr>
        <p:blipFill>
          <a:blip r:embed="rId1"/>
          <a:stretch/>
        </p:blipFill>
        <p:spPr>
          <a:xfrm>
            <a:off x="3040200" y="782640"/>
            <a:ext cx="3063600" cy="5292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576520" y="92880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75800" y="55008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90920" y="556272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14600" y="91440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04920" y="6186600"/>
            <a:ext cx="631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*pdCTAGCTGATGCTCAGGCTAAGTCGCGACGATG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303120" y="457200"/>
          <a:ext cx="2338560" cy="27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3120" y="457200"/>
                    <a:ext cx="2338560" cy="27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3516480" y="685800"/>
          <a:ext cx="2274840" cy="263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16480" y="685800"/>
                    <a:ext cx="2274840" cy="26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3200400" y="1752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2742840" y="1905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546880" y="2077920"/>
          <a:ext cx="779400" cy="592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46880" y="2077920"/>
                    <a:ext cx="77940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 flipH="1">
            <a:off x="5254200" y="1752480"/>
            <a:ext cx="536040" cy="426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4" y="13082"/>
                </a:moveTo>
                <a:arcTo wR="10800" hR="10800" stAng="10068257" swAng="11010438"/>
                <a:lnTo>
                  <a:pt x="10800" y="10800"/>
                </a:lnTo>
                <a:close/>
              </a:path>
              <a:path fill="none" w="21600" h="21600">
                <a:moveTo>
                  <a:pt x="244" y="13082"/>
                </a:moveTo>
                <a:arcTo wR="10800" hR="10800" stAng="10068257" swAng="11010438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384960" y="743040"/>
          <a:ext cx="2689200" cy="268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384960" y="743040"/>
                    <a:ext cx="2689200" cy="26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6095880" y="19051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2280" y="5410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971800" y="5410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RNA ahela katkemise ske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28600" y="3733920"/>
          <a:ext cx="2689200" cy="2949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8600" y="3733920"/>
                    <a:ext cx="2689200" cy="29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3352680" y="4457880"/>
          <a:ext cx="2689200" cy="1806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352680" y="4457880"/>
                    <a:ext cx="2689200" cy="18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6378480" y="4148280"/>
          <a:ext cx="2689200" cy="2423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378480" y="4148280"/>
                    <a:ext cx="2689200" cy="24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6248520" y="5334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2T17:03:10Z</dcterms:created>
  <dc:creator>kppo</dc:creator>
  <dc:description/>
  <dc:language>en-US</dc:language>
  <cp:lastModifiedBy>kasutaja</cp:lastModifiedBy>
  <dcterms:modified xsi:type="dcterms:W3CDTF">2009-10-13T13:27:28Z</dcterms:modified>
  <cp:revision>20</cp:revision>
  <dc:subject/>
  <dc:title>Nukleiinhapete keemiline sekveneerimine</dc:title>
</cp:coreProperties>
</file>