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31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1.png" ContentType="image/png"/>
  <Override PartName="/ppt/media/image15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C71-2A69-45AA-8B6E-F863C0B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881-0423-4912-940D-E1E58BA7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AF4-D2A2-42F7-9034-BDC9BA72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114-1CAA-4CD6-8126-C99C544E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C7A-0FEC-4E36-9BEB-1D7DFDF5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AA8-035E-4E54-8AD7-9E0775F9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142-2205-4929-B889-34931166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3BB-8E22-45FC-8043-3430B3B5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0D2-DC2B-42BC-859A-48079E24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CB9-4E03-4914-BBC0-4BCC56E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91B-B873-4C1B-8DAC-1ADFEF1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C30-7BEA-49F6-96C8-C7F603D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7AB17A-6F37-44F0-AE65-AFDD70798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03520" y="647640"/>
            <a:ext cx="39276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43120" y="1946160"/>
          <a:ext cx="7457760" cy="29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946160"/>
                    <a:ext cx="745776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727720" y="531720"/>
            <a:ext cx="259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Pürimidiini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417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92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92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8124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7488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74880" y="293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29000" y="457200"/>
            <a:ext cx="177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Puriin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9120" y="2084400"/>
          <a:ext cx="756432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2084400"/>
                    <a:ext cx="756432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4400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41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8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34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9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892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90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5800" y="270000"/>
            <a:ext cx="80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ukleiinhapete koostisesse kuuluvate mažoorsete pürimidiin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ja puriinide nimed ja lühendatud sümb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23880"/>
          <a:ext cx="8229600" cy="4680000"/>
        </p:xfrm>
        <a:graphic>
          <a:graphicData uri="http://schemas.openxmlformats.org/drawingml/2006/table">
            <a:tbl>
              <a:tblPr/>
              <a:tblGrid>
                <a:gridCol w="5181480"/>
                <a:gridCol w="144792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hetäheline sü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lmetäheline sü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tsüül (2,4-dioksotetrahüdropürimidi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ümiin (2,4-diokso-5-metüültetrahüdropürimidi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ütosiin (2-okso-4-aminodihüdropürimidi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eniin (6-aminopuri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iin (2-amino-6-oksodihüdropuri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ürimidi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i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t-E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6280" y="365040"/>
            <a:ext cx="465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terotsükli ja suhkru vahelin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5680" y="1143000"/>
            <a:ext cx="848772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Nukleosiidid ei anna erinevalt D-riboosist aldehüüdidele iseloomulikku hõbepeeg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ktsiooni - nukleosiidid eksisteerivad eranditult tsüklilises vorm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Adenosiin, guanosiin ja tsütosiin deamineeruvad HN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manulusel - glükosiidside 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e moodustunud eksotsüklilise aminorühma osalus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appelise hüdrolüüsi abil vabaneb nukleosiidist vaba lämmastikalus - 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kleosii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i ole C-glükosiidid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, sest C-C side ei lagunek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. Seega on tegemist puriinide ja pürimidiinide endo-N-glükosiididega. 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ini 9-lämmastiku ja pürimidiini 1-lämmastiku osalus glükosiidsidemes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 tõesta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Nukleosiidide ja vastavate lämmastikaluste modifitseerimisreaktsioonide ning</a:t>
            </a:r>
            <a:br>
              <a:rPr sz="1800"/>
            </a:b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derivaatide UV-spektrite järg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uhkrujäägi tsükli suurus tõestati nukleosiidide täieliku metüleerimise sellele järgne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hüdrolüüsi ning oksüdeerimisega. Informatiivne meetod on ka periodaatne oksüdeerimin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mis toimub veekeskkonnas kvantitatiivse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96640" y="669960"/>
            <a:ext cx="615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ükosiidse (anomeerse) tsentri konfiguratsi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73320" y="2050920"/>
            <a:ext cx="6588000" cy="2748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63720" y="5081760"/>
            <a:ext cx="6489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anomeeri korral ei oleks tsükli moodustumine steeriliselt võima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aloogsed reaktsioonid ka teiste nukleosiidide puhul (1.6.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7960" y="441360"/>
            <a:ext cx="750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õltuvalt heterotsüklilise aluse struktuurist saab nukleosi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otada puriin- ja pürimidiinnukleosiidid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22320" y="1563840"/>
            <a:ext cx="5613480" cy="3111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9440" y="4937040"/>
            <a:ext cx="677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in tuleb märkida, et kui Y=OH, siis alus eksisteer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ksovorm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04960" y="200160"/>
            <a:ext cx="7524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9640" y="185760"/>
            <a:ext cx="7515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0960" y="441360"/>
            <a:ext cx="7574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! Lämmastikaluste ja nukleosiidide lühendid erinev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õrdle tabeleid 1.2.html ja 1.7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Ühtlasi tutvu ka nukleotiidide nomenklatuuri ja tähistuste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.2.html, Tabel 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7480" y="1965240"/>
            <a:ext cx="99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06640" y="2606760"/>
          <a:ext cx="652608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2606760"/>
                    <a:ext cx="652608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219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37720" y="1828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60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9560" y="1662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01680" y="1415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2960" y="9144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112536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761920" y="1735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90880" y="1506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58800" y="1523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5520" y="13222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36800" y="820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143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1640" y="1752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00600" y="15238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73480" y="15858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31000" y="133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6520" y="838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3716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304720" y="3639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5053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6560" y="34732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096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9600" y="27255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276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3720" y="36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98600" y="2743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6760" y="3092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6760" y="3352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4640" y="31240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77240" y="1946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400" y="19461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dT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19461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U&gt;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25320" y="3927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U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5800" y="453708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una nukleotiidides on kaks tsüklilist fragmenti, tähistatakse 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ämmastikaluse aatomeid nagu vabas heterotsüklis, riboosi 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umeratsioonile lisandub   ’ (loe: “prim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t. Guanosiin-5’-fosfaat; 2’-desoksüadenos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Uridiin-2’,3’-tsüklofosfa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95520" y="746280"/>
            <a:ext cx="306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ktrooniline versi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66720" y="2023920"/>
          <a:ext cx="52387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2023920"/>
                    <a:ext cx="52387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5000" y="38088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ukleotiididevahelin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760" y="963720"/>
            <a:ext cx="7274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ukleiinhapetes (DNA ja RNA) on nukleosiidid ühendatud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5’,3’-fosfodiester sidemega – fosforhappe üks hüdroksüülrühm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n kondenseerunud ühe nukleosiidi 3’-hüdroksüülrühmaga ja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eine teise nukleosiidi 5’-hüdroksüülrühma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ligo- ja polünukleotiidide loetakse 5’-terminusest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3’-terminuse suunas. See suund ühtib  nukleiinhapete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biosünteesi suunaga, nukleiinhapete keemilist sünteesi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viiakse läbi vastupidises suunas. (uridinüül-(3’,5’)-adenosi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ihti kutsutakse  nukleotiididevahelist 3’,5’-fosfodiestersidet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“looduslikuks nukleotiidseks sidemeks”, kuigi ka looduses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sineb keemilisi ühendeid, kus nukleosiidid on omavahel seotud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eistsuguse sidemega, nt. 2’,5’-oligoadenülaadid,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5’,5’-dinukleosiidoligofosfaad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sforhappe estrid, nagu karboonhapete estridki hüdrolüüsuvad,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ndes piirituse ja anorgaanilise fosfaadi (ortofosforhappe). Selle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aktsiooni seaduspärasusi, tingimusi vaatleme hiljem details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9840" y="4613400"/>
            <a:ext cx="110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11040" y="351000"/>
            <a:ext cx="417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noorsed nukleosiid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60" y="1050840"/>
            <a:ext cx="82256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aks tähtsamatele nukleosiididele, leidub nukleiinhap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ostises ka vähemlevinumaid nukleosiide. Kõik minoor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kleosiidid DNAs on MITTEREPLIKATOORSED ja 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TETRANSKRIPTSIOONILI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 DNA koostises esinevad metüleeritud nukleosiidid.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üleerimine on tähtis geeniekspressio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atsioonimehhan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 Eriti rikas on minoorsete nukleosiidide poolest tRNA. S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minoorsetel nukleosiididel tähtsus roll ruumilise struktu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biliseerimi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 2’-O-metüülnukleosiide leidub ka mRNAdes (5’-mittetra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eritavas osas). Nende osalusel moodustuv nukleotiididevah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de on stabiilsuselt sarnane DN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5280" y="5927760"/>
            <a:ext cx="401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e lisaks 1.8.html ja 1.9.htm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3520" y="228600"/>
          <a:ext cx="249084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249084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0" y="380880"/>
          <a:ext cx="3508200" cy="29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80880"/>
                    <a:ext cx="35082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80880" y="3733920"/>
          <a:ext cx="3054600" cy="29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733920"/>
                    <a:ext cx="305460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498760" y="56037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inos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6960" y="31654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seudourid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2120" y="350532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2’-</a:t>
            </a:r>
            <a:r>
              <a:rPr b="0" i="1" lang="et-EE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-metüülguanos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2120" y="5299200"/>
            <a:ext cx="21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Nikotiinamii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ononukleoti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9880" y="4038480"/>
          <a:ext cx="3837240" cy="248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038480"/>
                    <a:ext cx="383724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92800" y="365040"/>
            <a:ext cx="506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ämmastikaluste keemilised omad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2800" y="2338560"/>
            <a:ext cx="837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ürimidiin on sarnane püridiiniga, kus süsinikaatomid omavad positiivset osalaeng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onantsstruktuuride abil näeme, et elektronide puudujääk on positsioonidel 2,4 ja 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ga mitte positsioonil 5. Seega saab oodata, et elektrofiilsed reagendid atakeeriv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sitsiooni 5, seevastu nukleofiilsed reagendid peaksid reageerima positsioonidega 2,4,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55760" y="3921120"/>
            <a:ext cx="6118200" cy="220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38680" y="1203480"/>
            <a:ext cx="204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Pürimidiin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29480" y="966960"/>
            <a:ext cx="7983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riinides peaksid positsioonid 2 ja 6 olema sarnased pürimidiini positsioonid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,4,6 (positsioonid puriinis 4 ja 5 on seotud imidasoolringiga). Imidasoolringis ol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üsinikuaatom 8 peaks olema analoogselt pürrool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positsiooniga olema elektron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iaga, mistõttu see positsioon on avatud elektrofiilsete reagentide atak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0800" y="44136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Puriin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2222640"/>
            <a:ext cx="4110120" cy="1185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1000" y="3459240"/>
            <a:ext cx="571968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56640" y="4776840"/>
            <a:ext cx="8324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B! Loomulikult on lämmastikaluste keemilised omadused sõltuvad ka eksotsüklilis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endajatest ja puriinides mõjutavad pürimidiinringi asendajad ühtse aromaatse süste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äbi ka imidasoolringi elektrontiheduse jaotust (ja vice vers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533520" y="1600200"/>
          <a:ext cx="805788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5788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794040" y="2909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8560" y="260496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3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21360" y="313848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1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83840" y="24526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0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21720" y="36720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1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59600" y="176688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3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83840" y="41292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0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0520" y="371808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2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0880" y="51656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1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6480" y="3581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4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3840" y="310824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3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720" y="214776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1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1080" y="327672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1148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213372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3733920"/>
            <a:ext cx="38124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1148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8195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3809880"/>
            <a:ext cx="38124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51460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480060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28195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3809880"/>
            <a:ext cx="38124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0120" y="160020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16765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213372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31240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41148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124080"/>
            <a:ext cx="38124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41148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480060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98280" y="207180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4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22320" y="260496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4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45800" y="290988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6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31800" y="306216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1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87520" y="37180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2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46160" y="35956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4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8800" y="374796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2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74760" y="123336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2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30320" y="121932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2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16120" y="2346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0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84440" y="45100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0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64560" y="4357800"/>
            <a:ext cx="8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-0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98760" y="4815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44520" y="51656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+0.1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040" y="304920"/>
            <a:ext cx="84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engute jaotus pürimidiinidel kvantmehhaaniliste arvutuste põhj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52280" y="1600200"/>
          <a:ext cx="8663040" cy="35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66304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8382600" y="31384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2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73120" y="50371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2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4840" y="40006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4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40384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534520" y="35053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4724280"/>
            <a:ext cx="38124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90960" y="17906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3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7160" y="30862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28680" y="35956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30480" y="43671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6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50840" y="26812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5160" y="40006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1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64960" y="3519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3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720" y="345276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+0.2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11000" y="27576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3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62000" y="31622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0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56880" y="30862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0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800" y="4915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31240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22096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29718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88620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403848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7339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3733920"/>
            <a:ext cx="38124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28195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3429000"/>
            <a:ext cx="38124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46483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3120" y="23004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5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01000" y="259092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6040" y="39625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0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2160" y="17524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4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8720" y="3048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5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20240" y="35575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3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22040" y="43290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5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42400" y="2643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5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6360" y="39625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-0.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1960" y="361944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+0.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02600" y="33526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3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02560" y="2719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17000" y="316224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+0.1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880" y="30481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0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2360" y="48769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1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82720" y="3086280"/>
            <a:ext cx="38124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9560" y="217188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06560" y="293364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06560" y="3848040"/>
            <a:ext cx="380880" cy="381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9560" y="4000680"/>
            <a:ext cx="380880" cy="3808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06760" y="369576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16040" y="369576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49560" y="278136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40" y="3390840"/>
            <a:ext cx="38088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06560" y="461016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02800" y="1233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2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54360" y="1600200"/>
            <a:ext cx="38088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83480" y="12333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+0.2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35040" y="1600200"/>
            <a:ext cx="381240" cy="38088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3124080"/>
            <a:ext cx="380880" cy="38124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6160" y="304920"/>
            <a:ext cx="78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aengute jaotus puriinidel kvantmehhaaniliste arvutuste põhj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877480" y="517680"/>
            <a:ext cx="18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utomer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9520" y="1219320"/>
            <a:ext cx="7827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uigi eksotsüklilised hapnikud nukleosiidides on oksovormis (laktaam) 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ksotsüklilised lämmastikud aminovormis (enamiin), tuleb silmas pidada ka nen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utomeersete vormide (vastavalt laktiim ja ketimiinvormi) võimalikk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449440" y="3271680"/>
            <a:ext cx="3017880" cy="2443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114800" y="327816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434484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89200" y="212760"/>
            <a:ext cx="565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kleotiidide happelis-aluselised omad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884320" y="1195560"/>
          <a:ext cx="2764080" cy="44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4320" y="1195560"/>
                    <a:ext cx="2764080" cy="44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V="1">
            <a:off x="2743200" y="1981080"/>
            <a:ext cx="38088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048120" y="4038480"/>
            <a:ext cx="5331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1294920"/>
            <a:ext cx="1828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105160" y="2133360"/>
            <a:ext cx="1066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715000" y="2819520"/>
            <a:ext cx="4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73280" y="1344600"/>
            <a:ext cx="2702880" cy="25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Heterotsükl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1) Neutraalse pH ju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laengut ei 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2) Happelises kesko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rotoneeruvad (C, A,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luselises keskkon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loovutavad proot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(U, G,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3120" y="3976560"/>
            <a:ext cx="282168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Fosfaatrühma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eutraalse pH ju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lati deprotoneeritu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lati negatiivselt laet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rotoneerub pH~1 ju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120" y="1600200"/>
            <a:ext cx="2692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erminaalse fosfaa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eine hüdroksüül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eutraalses keskko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saliselt deprotoneer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38520" y="6172200"/>
            <a:ext cx="62157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Hüdroksüülrühm loovutab prootoni tugevalt leeliselises </a:t>
            </a:r>
            <a:r>
              <a:rPr b="0" lang="et-EE" sz="1400" spc="-1" strike="noStrike">
                <a:solidFill>
                  <a:srgbClr val="000000"/>
                </a:solidFill>
                <a:latin typeface="Times New Roman"/>
              </a:rPr>
              <a:t>keskkonnas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 pH&gt;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(oligomeeride puhul praktilist tähtsust ei om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715000" y="556236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341360" y="374760"/>
            <a:ext cx="6507360" cy="189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4200480" cy="2116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1214280" y="4579920"/>
            <a:ext cx="7167600" cy="1868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3400" y="228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pH~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228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pH~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4800" y="198108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pH~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02040" y="41148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pH~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10600" y="2286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H&lt;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29760" y="22860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H&lt;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960" y="41911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H&lt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20574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pH&gt;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419112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pH&gt;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4760" y="1293840"/>
            <a:ext cx="509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ukleosiid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ukleotiid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ukleiinha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ukleiinlämmastikal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-glükosiid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imes New Roman"/>
              </a:rPr>
              <a:t>Nukleotiididevaheline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685800"/>
          <a:ext cx="80010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0010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188080" y="517680"/>
            <a:ext cx="509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-glükosiidsideme stabiils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2.4.ht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2880" y="1195560"/>
            <a:ext cx="6838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uigi N-glükosiidside on võrreldamatult stabiilsem võrrelduna tavali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minoatsetaalidega, toimub happelises keskkonnas hüdrolüüs, m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agajärjel vabaneb heterotsükliline al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995480" y="2257560"/>
            <a:ext cx="4075200" cy="1112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143000" y="3476520"/>
            <a:ext cx="5629320" cy="3248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58000" y="3870360"/>
            <a:ext cx="1402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35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7280" y="5089680"/>
            <a:ext cx="1675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7 m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39080" y="1812960"/>
            <a:ext cx="702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iilse N-glükosiidsidemega nukleosiidide derivaa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9960" y="2338560"/>
            <a:ext cx="80168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Kümneid tuhandeid kordi kiiremini kui vastavad nukleosiidid, hüdrolüüsuv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mõninga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riinide derivaadid, kus heterotsüklil on fikseeritud positiivne lae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5,6-dihüdropürimidi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kleosiidi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n samuti vastavates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ürimidii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ukleosiidid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suurusjärk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biilsem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92080" y="3641760"/>
            <a:ext cx="518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N-glükosiidsidet stabiliseerivad faktor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5440" y="4167360"/>
            <a:ext cx="7998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. Hüdrolüüsi kiirus: 2’.3’-didesoksüuridiin &gt; 2’-desoksüuridiin &gt; uridi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. Kui pürimidiinnukleotiidid on mõnevõrra stabiilsemad vastavatest nukleosiidide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uriinnukleotiidide stabiilsus on võrreldav vastavate nukleosiidideg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79080" y="593640"/>
            <a:ext cx="4956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ga: G&gt;A&gt;&gt;C~U ja dG&gt;dA&gt;&gt;dC~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7720" y="1050840"/>
            <a:ext cx="78141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uriniseerumin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ähtis reaktsioon polünukleotiidide järjestuse määramise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amiseid kõrvalreaktsioone oligonukleotiidide keemilisel süntees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240" y="5386320"/>
            <a:ext cx="8359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uleb veel märkida, et N-glükosiidside EI OLE ALATI </a:t>
            </a: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täielikul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abiilne neutraalses 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eliselises keskkondades: tümidiiini hüdrolüüs nõrgalt leeliselises keskkonn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enosiin hüdrolüüsub 1 N NaOH, 10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t1/2~2 tund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9080" y="746280"/>
            <a:ext cx="839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kleosiid - termin pärineb1909 a. Levene ja Jacobsilt, algselt pärmi ekstraktist eraldatud puriini süsivesinikderivaad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60020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änapäeval - nukleosiid on lai keemiliste ühendite klass, mis hõlmab erinevate süsivesinike heterotsüklilisi deriva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920" y="2422440"/>
            <a:ext cx="834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rinevalt valkudest on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olümeersete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kleiinhapete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kompon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ähem, aga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d on keemiliselt keerukamad ühend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520" y="3336840"/>
            <a:ext cx="72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kleiinhapped sisaldavad ainult kaht tüüpi nukleosiid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-riboosi ja 2-desoksüriboosi deriva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54320" y="4260960"/>
            <a:ext cx="3711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6720" y="166680"/>
            <a:ext cx="907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ukleotiidi saab lihtsaimalt defineerida kui fosforüleeritud nukleosiidi. S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n termin nukleotiid mitmel põhjusel fundamentaalsem, kui nukleosii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isaldab kõiki nukleiinhappe osis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ukleiinhapped on nukleotiidide kondensatsiooniprodukti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6000" y="5257800"/>
            <a:ext cx="768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3) Biosünteetiliselt on nukleotiid primaarne, primitiivsemad nukleosiid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moodustuvad </a:t>
            </a:r>
            <a:r>
              <a:rPr b="0" i="1" lang="et-EE" sz="2000" spc="-1" strike="noStrike">
                <a:solidFill>
                  <a:srgbClr val="000000"/>
                </a:solidFill>
                <a:latin typeface="Times New Roman"/>
              </a:rPr>
              <a:t>in vivo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hoopiski nukleotiidide defosforüleerimi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1752480"/>
          <a:ext cx="555948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555948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03320" y="1455840"/>
          <a:ext cx="7118280" cy="22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455840"/>
                    <a:ext cx="711828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04400" y="608040"/>
            <a:ext cx="315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Fisheri valem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400480" y="4052880"/>
          <a:ext cx="4324320" cy="20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0480" y="4052880"/>
                    <a:ext cx="432432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49200" y="411120"/>
            <a:ext cx="6635880" cy="633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733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862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960" y="358128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960" y="37339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38862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3120" y="4267080"/>
            <a:ext cx="6058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t-EE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t-EE" sz="1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9520" y="335268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000" spc="-1" strike="noStrike">
                <a:solidFill>
                  <a:srgbClr val="000000"/>
                </a:solidFill>
                <a:latin typeface="Times New Roman"/>
              </a:rPr>
              <a:t>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5680" y="29718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200" spc="-1" strike="noStrike">
                <a:solidFill>
                  <a:srgbClr val="000000"/>
                </a:solidFill>
                <a:latin typeface="Times New Roman"/>
              </a:rPr>
              <a:t>NB!</a:t>
            </a: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 L-ribo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971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4120" y="6338880"/>
            <a:ext cx="38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naloogselt ka teised L-rea suhkr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4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07480" y="228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0" y="1219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480" y="762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0" y="1676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t-EE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84480" y="6521400"/>
            <a:ext cx="27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D-riboos-5-fosfaadi </a:t>
            </a:r>
            <a:r>
              <a:rPr b="0" lang="et-EE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-anome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838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19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6765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6606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12794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8380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57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9144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13716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173664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40" y="3657600"/>
            <a:ext cx="179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D-riboos-5-fosfaa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Times New Roman"/>
              </a:rPr>
              <a:t>Lineaarne v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3520" y="90360"/>
            <a:ext cx="84286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iboos ja tema 5-fosfaat eksisteerivad vesilahuses tsüklilistes vorm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iboos-5-fosfaadi puhul, kus kuueliikmeliset tsüklit (püranoosi) ei moodustu,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66% beeta- ja 33% alfa-anomeeri, lineaarset vormi ~1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eemiliselt on furanoos niisiis molekulisisene poolatseta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ldehüüdidele iseloomulik hõbepeegli reaktsioon (aldehüüd oksüdeeru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rboksüülhappeks) toimub tsükliseeruvates suhkrutes aeglase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arnaselt aldehüüdidega reageerib riboosi aldehüüdrühm amiinidega, algse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oimub liitumisreaktsioon, siis elimineerub vee molekul andes lineaarse imii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Orgaanilise keemia kursusest teame, et taoline reaktsioon on täielikult pöördu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iboosi ja nukleotiidsete heterotsüklite vahel taolist reaktsiooni ei toi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eemiliselt on võimalik nukleosiidne side sünteesida lähtudes riboosi haloge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või atsüülderivaatidest (riboosi aktivatsiooni kasutab ka emake loodus – kõik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ukleotiidide süntees toimub läbi 1-pürofosforüleeritud riboosi-5-fosfaad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ukleosiidi keemiline süntees ei ole lihtne, omas tähtsust struktuuri kindlaks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egemis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Reaktiivina kasutatavad nukleosiidid ja nukleotiidid on eranditult puhastatud 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looduslikest allika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505320" y="5105520"/>
          <a:ext cx="420660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105520"/>
                    <a:ext cx="420660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10:02:04Z</dcterms:created>
  <dc:creator>KBFI</dc:creator>
  <dc:description/>
  <dc:language>en-US</dc:language>
  <cp:lastModifiedBy>Tõnu Reintamm</cp:lastModifiedBy>
  <dcterms:modified xsi:type="dcterms:W3CDTF">2006-09-18T07:31:50Z</dcterms:modified>
  <cp:revision>29</cp:revision>
  <dc:subject/>
  <dc:title>No Slide Title</dc:title>
</cp:coreProperties>
</file>