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wmf" ContentType="image/x-wmf"/>
  <Override PartName="/ppt/media/image19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41.wmf" ContentType="image/x-wmf"/>
  <Override PartName="/ppt/media/image30.png" ContentType="image/png"/>
  <Override PartName="/ppt/media/image28.png" ContentType="image/pn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2F54-EB37-4B45-8C2E-6C128ABE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EC2-FD20-4FA4-B39F-59831B61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B88B-20E7-478F-BEA1-3DC6C89E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620A-3351-40E5-9BE3-45F00651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A7A-5EE9-47A9-ACEF-5AC8ADA8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B5B-FED3-409E-A591-0E843455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DB2-B1A9-4886-AEDE-67ACD781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E00-88F2-4F4E-AEE5-9D1B44A1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DFA-F800-45C7-BE10-A1E34949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BE2-FBD8-42DC-A25D-78521FA3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D0B-11E5-48FC-9291-728942BD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4EB6-8E4A-4C5B-83C2-59CE3586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D606CE0-7BA9-47D5-9D02-F8C99FF6B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3480" y="868320"/>
            <a:ext cx="4223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osforhappe estri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rgaaniline keem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75480" y="2955960"/>
            <a:ext cx="237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irjan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4.html, 4.5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48160" y="365040"/>
            <a:ext cx="254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sforhappe estr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53960" y="1189080"/>
            <a:ext cx="5554800" cy="1832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61680" y="3016080"/>
            <a:ext cx="56728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6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ukleiinhapetes sisaldub kahte tüüpi fosforhappe derivaat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 fosfomonoestrid ja fosfodiestri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8120" y="3919680"/>
            <a:ext cx="8602200" cy="21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6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5’-terminaalsed fosfaatrühmad DNA-s ja RNA-s ning 3’-terminaalsed fosfaatrühmad DNA-s ja RNA-s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ing 2’-terminaalne fosfaatrühm RNA-s on fosfo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ono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stri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ukleotiididevahelised fosfaadid on fosfo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strid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’-terminaalsed 2’,3’-tsüklofosfaadid RNA puhul tsüklilised fosfodiestrid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äsitledes terminaalsete fosfaatide reaktsioon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uutume veel kokku mittelooduslike nukleiinhapete 5'- ja 3'-estriteg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amuti ei saa me mööda fosfo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ri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stritest (oligonukleotiidide keemiline süntees!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38040" y="203040"/>
            <a:ext cx="3886200" cy="6444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924440" y="781200"/>
            <a:ext cx="294336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71040" y="289080"/>
            <a:ext cx="71604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noalküülfosfaatide hüdrolüü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kirjeldab täielikult nukleotiidide hüdrolüü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nometüülfosfaadi hüdrolüüsi kiiruskonstandi sõltuvus pH-st on keerulin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eeliselise pH juures on MMF stabiilne, pH 4 juures on kiirus maksimaaln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H~1 juures on miinimum ja keskkonna happelisuse suurenemisel kiirus kasvab jäl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76240" y="2052720"/>
            <a:ext cx="7381800" cy="213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33360" y="4216320"/>
            <a:ext cx="858852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üdrolüüsi kiiruse sõltuvus pH-st seotud MMF dissotsiatsioonikonstantidega (pK1=1.54 ja pK2=6.31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ianioon on absoluutselt stabiilne, monoanioon kõige kiiremini hüdrolüüsuv vorm (monoaniooni kontsentratsio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ongi pH~4 juures maksimaalne), neutraalne vorm hüdrolüüsub monoanioonist umbes 100 korda väiksema kiiruseg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kiiruskonstandi suurenemine pH&lt;1 on tingitud MMF konjugeeritud happe hüdrolüüsi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Konjugeeritud hape on mõnevõrra stabiilsem, kui monoanio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onoaniooni hüdrolüüs kulgeb SN1 mehhanismi järgi, intermediaadiks postuleeritakse monomeer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etafosfaadi teket (viimase tekkimist ei ole küll kunagi eksperimentaalselt tõestatud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ii nukleosiid-5'-fosfaadid, kui ka nukleosiid-3'(2')-fosfaadid hüdrolüüsuvad analoogselt alküülfosfaatideg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oomulikult tuleb teha siinkohal järgmine märkus: pH&lt;1 juures on puriinnukleotiidide N-glükosiidsid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agunemise kiirus suurem, kui defosforüleerimise kiiru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41720" y="303120"/>
            <a:ext cx="8196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ibonukleosiid-3'(2')-fosfaatide defosforüleerimist neutraalses keskkonnas katalüüsivad tooriumi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sirkooniumi, plii, lantaani soolad ja hüdroksiidi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360" y="2741760"/>
            <a:ext cx="8499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ibonukleosiid-3'-fosfaadi hüdrolüüsiga happelises keskkonnas kaasne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ibonukleosiid-2'-fosfaadi teke (ja vastupidi!), mida põhjustab ribonukleosiid-2',3'-tsüklofosfaadi tek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76240" y="933480"/>
            <a:ext cx="4972320" cy="1628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05120" y="3881520"/>
            <a:ext cx="51721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24480" y="365040"/>
            <a:ext cx="291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sforhappe diester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1141560"/>
            <a:ext cx="68295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sforhappe diestrid on tugevad happed ühe dissotsiatsioonikonstandiga (pK~1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sfodiestrid lagunevad ainult happelises keskkonn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eutraalses ja leeliselises keskkonnas dialküülfosfaadid on stabiils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metüülfosfaadi kui tüüpilise esindaja hüdrolüüsi pH-sõltuvus (100 degree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n toodud graafiku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52560" y="2766960"/>
            <a:ext cx="2201760" cy="3600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03520" y="2817720"/>
            <a:ext cx="42710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ega: kui dialküülfosfaat hüdrolüüsub, si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n see tingitud alati põhjustatud asendaja erilis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madustes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50120" y="441360"/>
            <a:ext cx="785988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ialküülfosfaad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rinevalt mono- ja dialküülfosfaatidest hüdrolüüsuvad trialküülfosfaadid nii happelise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ui ka leeliselises keskkonn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ialküülfosfaadid on neutraalsed molekuli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eeliselises keskkonnas atakeerib hüdroksüülioon fosfori aatomit (negatiivne laeng puudub!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eutraalses ja happelises keskkonnas hüdrolüüsi kiirus praktiliselt ei sõltu pH-s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egelikult on siin tegemist hoopis lahusti alküleerimisega - trimetüülfosfaat on tuntu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ui metüleeriv agent, küll mõnevõrra nõrgem kui dimetüülsulfaa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ui trialküüfosfaadil on üks metüülrühm ja kaks tavalist alküülrühm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iis on toimub metüleerimine - selle asjaolu kasutatakse oligonukleotiidide süntees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etüülrühmi nukleotiididevahelise sideme kaitserühman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amas on aga võimalik sünteesitava oligonukleotiidi heterotsüklite metüleerumin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istõttu oligonukleotiidide sünteesil eelistatakse alternatiivseid kaitserüh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41280" y="4379760"/>
          <a:ext cx="6642360" cy="18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1280" y="4379760"/>
                    <a:ext cx="6642360" cy="18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77480" y="365040"/>
            <a:ext cx="210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üülfosfaad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8120" y="1141560"/>
            <a:ext cx="707652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rüülfosfaadid on alküülfosfaatidest tunduvalt labiilsemad leeliselises keskkonn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e on tingitud tekkiva piirituse tunduvalt suuremast happelisuse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alifaatsete piirituste pKa~15, fenoolidel pK~10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ida väiksemat pK väärtust vabanev fenool omab, seda kiiremini toimub hüdrolüü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eeliselises keskkonn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änu arüülfosfaatide drastiliselt suuremale labiilsusele kasutatakse arüülrühm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ukleotiididevahelise diesterrühma kaitserühmadena oligonukleotiidide sünteesi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46720" y="655560"/>
            <a:ext cx="311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elimineerim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1960" y="1293840"/>
            <a:ext cx="8467920" cy="21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avalistest mono- di ja trialküülfosfaatidest erinevalt käituvad leeliselises keskkonnas dramaatilisel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rinevalt sellised fosfaadid, mille alküülrühmal on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positsioonis elektronegatiivsed asendajad nag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, (C=O)OH, (C=O)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esinikuaatomid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positsioonis on elektronegatiivse asendaja mõjul "aktiivsed"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üdroksüülioon või teine piisavalt tugev alus (ka alifaatsed amiinid) seob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positsioonis ole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otoni ja samaaegselt moodustub b- ja a-süsiniku aatomite vahele kaksikside ja fosfaat elimineeru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ioonin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4200" y="3556080"/>
            <a:ext cx="8859960" cy="1414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56920" y="5280120"/>
            <a:ext cx="7966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oodud näide ei ole juhuslikult toodud b-tsüaanetüülfosfaadiga - tsüaanoetanoolist moodustunud fosfoestr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kasutatakse laialdaselt oligonukleotiidide keemilisel sünteesil, lisaks nukleotiididevahelise kaitserühma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midofosfiitmeetodil, kui  ka 5'-terminaalse fosfaadi keemilisel sünteesi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05080" y="496800"/>
            <a:ext cx="7332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6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elimineerimine on ka reaktsioon, mis võimaldab oligonukleotiidid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kveneerimise.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-glükosiidsideme lõhkumisega tekib samuti aine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s eksisteerib osaliselt vormis, kus 3'-fosfaadi suhte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positsiooni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ub elektronegatiivne asendaja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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00320" y="2243160"/>
          <a:ext cx="6513480" cy="31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0320" y="2243160"/>
                    <a:ext cx="651348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60240" y="2209680"/>
            <a:ext cx="781560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1000080"/>
            <a:ext cx="7305840" cy="14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5800" y="2529000"/>
            <a:ext cx="3495600" cy="148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71920" y="2490840"/>
            <a:ext cx="4014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sforhappe estrites on fosforiaat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traheedrililine sarnaselt alifaatsete (sp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üsinikuühendite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4040" y="4014720"/>
            <a:ext cx="7928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p2 süsinikuühendites on kolm sigma-sidet on ühes tasapinnas 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i-side on selle tasapinnaga perpendikulaarne. Fosfori puhul ei ole Pi-s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kaliseeritud ainult fosforüülrühmal. Osaliselt on kaksiksidemed ka teised sidem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bensüülfosfaadis on P=O sideme kordsus 1.7 ja P-O sidemete kordsus 1.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0680" y="5234040"/>
            <a:ext cx="8260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sfori aatom on süsinikuaatomiga võrreldes vähem elektronegatiivne (C - 2.5, P - 2.1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istõttu on P=O side C=O sidemest rohkem polariseeritu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0880" y="768240"/>
            <a:ext cx="2156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9480" y="539640"/>
            <a:ext cx="2156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8080" y="539640"/>
            <a:ext cx="2156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6680" y="539640"/>
            <a:ext cx="2156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1160" y="1012680"/>
            <a:ext cx="34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54320" y="78408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066680" y="76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990720" y="76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219320" y="533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447920" y="533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17880" y="579600"/>
            <a:ext cx="4362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üsinikuaatomi välise elektronkihi struktuur. Puuduvad d-orbitaa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801880" y="365040"/>
            <a:ext cx="224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süklofosfaad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073160"/>
            <a:ext cx="776916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6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tüleenfosfaat (5-liikmeline tsükkel) hüdrolüüsub kümme-sada miljonit korda kiiremini kui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metüülfosfaat või propüleenfosfaat (6-liikmeline tsükkel) nii happelises keskkonnas kui ka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eeliselises keskkonnas. Etüleenfosfaadi labiilsuse põhjustavad steerilised pinged, mis relakseeruvad üleminekuolekus. Kui leeliseline hüdrolüüs on praktiliselt pöördumatu, siis etüleenfosfaadi ja tema keerukamate analoogide (ribonukleosiid-2',3'-tsüklofosfaadid!) happeline hüdrolüüs on pöörduv ja selle protsessi keerukas mehhanism, mida tuntakse pseudorotatsiooni all, näiteks isomeerselt puhta ribonukleotiid-3'-fosfaadi isomeriseerumisele happelises keskkonnas (ribonukleotiid-2'-fosfaadi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6280" y="4491000"/>
            <a:ext cx="6077160" cy="2133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814400" y="3281400"/>
            <a:ext cx="55054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05000" y="1576440"/>
            <a:ext cx="65246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81240" y="601560"/>
            <a:ext cx="47721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32560" y="208080"/>
            <a:ext cx="641988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6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sfodiestersideme hüdrolüüs ribonukleiinhape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85960" y="3822840"/>
            <a:ext cx="5564160" cy="2403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69000" y="890640"/>
            <a:ext cx="844200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. Leeliseline hüdrolüü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NA erineb DNA-st fosfodiestersideme vahetus naabruses asuva hüdroksüülrühma pooles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e orgaanilises keemias suhteliselt väheaktiivne funktsionaalne rühm põhjustab aga R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üdrolüütilise labiilsu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üdroksüülioon ei atakeeri fosfori aatomit otse, vaid suurendades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positsioonis oleva OH-rüh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ukleofiilsust (viimase pK~12, seega ioniseerub) ning fosforit atakeerib viimane. Atakk saab ol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sultatiivne ainult kui sobivas asendis on olemas lahkuv rühm. Selleks ei saa ol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O- ega ka -O-C(3’)H- rühm, ainult -O-R rühm. Moodustub juba vaadeldud viieliikmeline tsükke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ille ebastabiilsus on meile juba teada ja siin võivad lahkuva rühma rollis olla sama edukalt 2’- ja 3’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ühmad. Niisiis RNA ja laiemalt nukleosiid-3'-alküülfosfaatide leeliseline hüdrolüüs kulg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519120"/>
            <a:ext cx="7915320" cy="5810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85640" y="2286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Happeli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hüdrolüü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33480" y="2643120"/>
            <a:ext cx="7269120" cy="1562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11440" y="792000"/>
            <a:ext cx="51274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ibonukleosiid-3'-dialküülfosfaatide hüdrolüüs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B! Fosfaat jääb cis-glükoolrühma kül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3760" y="212760"/>
            <a:ext cx="8678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sfomonoesterrühma derivatiseerimine e. fosfaatrühma aktivatsi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520" y="1027080"/>
            <a:ext cx="9095040" cy="1270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86200" y="2970360"/>
            <a:ext cx="7582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noalküülfosfaadi reaktsioon kondenseeriva agendiga võib olla kas asendusreaktsiooni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hapete klooranhüdriidid) või liitumisreaktsioon (karbodiimii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64960" y="3909960"/>
            <a:ext cx="84204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95520" y="804960"/>
            <a:ext cx="5029200" cy="971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90520" y="2143080"/>
            <a:ext cx="5686560" cy="1343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566720" y="3524400"/>
            <a:ext cx="55436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43040" y="471600"/>
            <a:ext cx="58482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24000" y="623880"/>
            <a:ext cx="6229440" cy="346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712800" y="4552920"/>
          <a:ext cx="7394400" cy="18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4552920"/>
                    <a:ext cx="739440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506160" y="166680"/>
            <a:ext cx="43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Fosfamiidide happelise hüdrolüüsi ki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4520" y="318960"/>
            <a:ext cx="7448400" cy="2400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73200" y="2825640"/>
            <a:ext cx="798804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6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 u="sng">
                <a:solidFill>
                  <a:srgbClr val="000000"/>
                </a:solidFill>
                <a:uFillTx/>
                <a:latin typeface="Times New Roman"/>
              </a:rPr>
              <a:t>Sarnasus nukleofiilse asendusega alifaatse süsiniku juures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Nukleofiilne agent Nu atakeerib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sfori aatomit nii, et lahkuv rühma X, fosfori aatom ja nukleofiil asuvad sirgel. Süsiniku puhul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aasneb sellise asendusega hästituntud fenomen - süsiniku konfiguratsiooni pöördumine ehk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aldeni inversioon. Ka kiraalsete fosforit sisaldavate molekulide puhul on see ni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 u="sng">
                <a:solidFill>
                  <a:srgbClr val="000000"/>
                </a:solidFill>
                <a:uFillTx/>
                <a:latin typeface="Times New Roman"/>
              </a:rPr>
              <a:t>Erinevus nukleofiilse asendusega alifaatse süsiniku juures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Ekvatoriaalsed sidemed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-a,C-b,C-c on tunduvalt tugevamad, kui C-Nu ja C-X (lähedased ioonsetele), sest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ÜSINIKUL EI OLE d-orbitaale!. Kuna fosforil on d-orbitaalid, siis saab fosfori aatom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odustada viis võrreldava(kui mitte võrdse) tugevusega orbitaal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62160" y="1062000"/>
            <a:ext cx="4657680" cy="3048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876320" y="4503600"/>
            <a:ext cx="52308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85800" y="895320"/>
          <a:ext cx="7772400" cy="49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95320"/>
                    <a:ext cx="777240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14480" y="328680"/>
            <a:ext cx="6191280" cy="3600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41480" y="3892680"/>
            <a:ext cx="874368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6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una üleminekustruktuuris on sidemed võrrreldava tugevusega, siis saab toimuda järgmine protsess: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ksiaalsed ja ekvatoriaalsed asendajad vahetavad oma kohad. Seda protsessi võib vaadelda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tsessina, kus paralleelselt suureneb nurk E2-P-E3 (algselt 120 degrees),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usjuures E1, E2 ja E3 jäävad ekvatoriaalsesse tasapinda ja väheneb nurk A1-P-A2 (algselt 180 degrees)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ka tasapind E1 A1 A2 säilib)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ulemusena saame me struktuuri, kus reaktsiooni koordinaat muudab suunda ning lahkuvaks rühmak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sutub kas E2 või E3 (antud näites, aga sarnaselt E1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aoline protsessiga kaasneb optiliselt aktiivsete isomeeride ratsemisatsioon, aga meile on oluline, et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irjeldatud mehhanism seletab mitmeid riboosfosfaatide reaktsio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30920" y="357120"/>
            <a:ext cx="7099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ukleofiilse asendusreaktsioonikiiruse määravad ära kolm põhilist faktor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) nukleofiilse reagendi isel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) lahkuva rühma isel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) teiste asendajate isel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1040" y="1752480"/>
            <a:ext cx="3400560" cy="1971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46680" y="1522440"/>
            <a:ext cx="502560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) Kui etüülkloorkarbonaat hüdrolüüsub 10000 kor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eglasemalt, kui atsetüülkloriid, siis analoogne asend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sforüülühendite reas vaid 15 korda aeglasem (ag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kkagi aeglase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luliselt vähendab fosforiaatomi reaktsioonivõim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lküülamiidrühm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sforiaatomi reaktsioonivõimet moduleerib ka lahku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ühma elektronorbitaalide konjugatsioon fosforiga. Nii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loorfosfaadid oluliselt reaktsioonivõimelisemad k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luorfosfaadid (viimaste puhul tugev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konjugatsioo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360" y="4113360"/>
            <a:ext cx="8175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) lahkuv rühm: rusikareegel: mida stabiilsem anioon vabaneb, seda kiirem reaktsio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uidas hinnata lahkuva aniooni stabiilsust - mida tugevama happe anioon, seda stabiilsem anio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9080" y="4924440"/>
            <a:ext cx="6686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71480" y="1890720"/>
            <a:ext cx="4724640" cy="1238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18520" y="487440"/>
            <a:ext cx="6634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mehhanism on fosfori asendusreaksioonides on harulda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34600" y="3656160"/>
            <a:ext cx="7311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eldab tasapinnalise, nn. metafosfaadi teket. Taolise osakese teke on näidatud eelkõi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aasifaasis. Lahuses on metafosfaat stabiliseeritud lahusti molekulideg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328920" y="4619520"/>
            <a:ext cx="18669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3920" y="1781280"/>
            <a:ext cx="8425440" cy="12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6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ukleofiilne: tertsiaarsed amiinid katalüüsivad paljusid asendusreaktsioone, sest tertsiaarne amiin astub reaktsioni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kui tugev nukleofiil (kiire reaktsioon) samas on aga tekkiv intermediaat aktiivsem, sest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konjugatsioon on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urustatud ja positiivselt laetud ammoniumlämmastikul on tugev induktiivne effekt suurendab fosforiaatomi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ositiivset osalaengut. Seega reageerivad nõrgad nukleofiilid nagu piiritused intermediaadiga kiiremi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03680" y="166680"/>
            <a:ext cx="1536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talüü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3720" y="1249200"/>
            <a:ext cx="244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ukleofiilne katalüü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76520" y="2986200"/>
            <a:ext cx="54766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90040" y="487440"/>
            <a:ext cx="2653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atalüüs üldise aluse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47880" y="1228680"/>
            <a:ext cx="5867280" cy="2104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053000" y="3579840"/>
            <a:ext cx="78645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lus suurendab piirituse nukleofiilsust sidudes prootonit (genereerib alkoholaatiooni, mis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ugev nukleofiil erinevalt piiritusest endas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ui reaktsioonikiirust piirab prootoni eemaldamine, siis deuteroalkohol reageerib aeglasema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luse steeriline iseloom ei mõjuta reaktsiooni kulgu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19920" y="517680"/>
            <a:ext cx="324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atalüüs üldise happe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7680" y="1447920"/>
            <a:ext cx="5772240" cy="1971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26080" y="3503520"/>
            <a:ext cx="6250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aktsioon katehooli monoaniooniga kulgeb kiiremini kui fenolaatiooni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29440" y="3946680"/>
            <a:ext cx="503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ktrofiilne katalüüs metalli ioonid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43120" y="4686480"/>
            <a:ext cx="2266920" cy="1590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88160" y="4578480"/>
            <a:ext cx="564084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6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da pilti pidage hästi meeles! Kahevalentsed metallid (sh. Mg2+)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odustavad tugevaid komplekse polüfosfaatidega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sh. nukleosiid-5'-trifosfaadid). Magneesiumi juuresolek on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aljude polümeraaside tööks hädavajalik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8:03:29Z</dcterms:created>
  <dc:creator>KBFI</dc:creator>
  <dc:description/>
  <dc:language>en-US</dc:language>
  <cp:lastModifiedBy>kasutaja</cp:lastModifiedBy>
  <dcterms:modified xsi:type="dcterms:W3CDTF">2010-10-06T10:35:29Z</dcterms:modified>
  <cp:revision>8</cp:revision>
  <dc:subject/>
  <dc:title>No Slide Title</dc:title>
</cp:coreProperties>
</file>