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47B-8EB4-46C5-96E8-3D76036B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0D6-DBD5-4D60-93F7-8F9C1B9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ACB-ABDF-429B-8612-2CD10CA3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884-DE76-4D1D-BC2A-8B7D771C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15D-BE2B-4F76-8027-CE122A63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2D7-54AE-46DB-B2F5-2D0A859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D5F-8209-4CA1-8A04-4B71A726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67D-664C-4C0A-9E32-BF76D74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389-BF35-44CD-A05B-8652E1E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654-08F2-4D0F-9288-02F6E21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3CB-31A9-438A-A88E-679E1C5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DEF-BA53-499B-8F8D-AA977DE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F93C-3A0E-486D-8DDB-092DF667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ikeväärtused sobivad. Vajutage lihtsalt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Next-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sti ühendust ja vajuta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Ühenduse loomine rakendusserver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li Jdeveloperis Connections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847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lusta uue rakendusserveri ühenduse loom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rem hiireklõps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i p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105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äärake ühendusele mingi ilus nimi ning vajutage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24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äärake kasutajanimi ja parool. Parool küsige õppejõu kä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07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äärake serveri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Host Name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R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05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stige ühendust ja vajutage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fi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lusta uue ühenduse loomist integratsiooni server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rem hiireklõps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Integration Server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i p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0384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Ühenduse loomise sam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äärake ühendusele mingi ilus nimi ja vajutage 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42:58Z</dcterms:created>
  <dc:creator>Tarvo Treier</dc:creator>
  <dc:description/>
  <dc:language>en-US</dc:language>
  <cp:lastModifiedBy>proovija</cp:lastModifiedBy>
  <dcterms:modified xsi:type="dcterms:W3CDTF">2008-10-22T14:10:4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